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2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46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149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43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147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14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145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07.xml" ContentType="application/vnd.openxmlformats-officedocument.theme+xml"/>
  <Override PartName="/ppt/theme/theme50.xml" ContentType="application/vnd.openxmlformats-officedocument.theme+xml"/>
  <Override PartName="/ppt/theme/theme139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30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6.xml" ContentType="application/vnd.openxmlformats-officedocument.theme+xml"/>
  <Override PartName="/ppt/theme/theme138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6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63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</p:sldMasterIdLst>
  <p:notesMasterIdLst>
    <p:notesMasterId r:id="rId158"/>
  </p:notesMasterIdLst>
  <p:sldIdLst>
    <p:sldId id="256" r:id="rId159"/>
    <p:sldId id="257" r:id="rId160"/>
    <p:sldId id="258" r:id="rId161"/>
    <p:sldId id="259" r:id="rId162"/>
    <p:sldId id="260" r:id="rId163"/>
    <p:sldId id="261" r:id="rId164"/>
    <p:sldId id="262" r:id="rId165"/>
    <p:sldId id="263" r:id="rId166"/>
    <p:sldId id="264" r:id="rId167"/>
    <p:sldId id="265" r:id="rId168"/>
    <p:sldId id="266" r:id="rId169"/>
    <p:sldId id="267" r:id="rId170"/>
    <p:sldId id="268" r:id="rId171"/>
    <p:sldId id="269" r:id="rId172"/>
    <p:sldId id="270" r:id="rId173"/>
    <p:sldId id="271" r:id="rId174"/>
    <p:sldId id="272" r:id="rId175"/>
    <p:sldId id="273" r:id="rId176"/>
    <p:sldId id="274" r:id="rId177"/>
    <p:sldId id="275" r:id="rId178"/>
    <p:sldId id="276" r:id="rId179"/>
    <p:sldId id="277" r:id="rId180"/>
    <p:sldId id="278" r:id="rId181"/>
    <p:sldId id="279" r:id="rId182"/>
    <p:sldId id="280" r:id="rId183"/>
    <p:sldId id="281" r:id="rId184"/>
    <p:sldId id="282" r:id="rId185"/>
    <p:sldId id="283" r:id="rId186"/>
    <p:sldId id="284" r:id="rId187"/>
    <p:sldId id="285" r:id="rId188"/>
    <p:sldId id="286" r:id="rId189"/>
    <p:sldId id="287" r:id="rId190"/>
    <p:sldId id="288" r:id="rId19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notesMaster" Target="notesMasters/notesMaster1.xml"/><Relationship Id="rId159" Type="http://schemas.openxmlformats.org/officeDocument/2006/relationships/slide" Target="slides/slide1.xml"/><Relationship Id="rId160" Type="http://schemas.openxmlformats.org/officeDocument/2006/relationships/slide" Target="slides/slide2.xml"/><Relationship Id="rId161" Type="http://schemas.openxmlformats.org/officeDocument/2006/relationships/slide" Target="slides/slide3.xml"/><Relationship Id="rId162" Type="http://schemas.openxmlformats.org/officeDocument/2006/relationships/slide" Target="slides/slide4.xml"/><Relationship Id="rId163" Type="http://schemas.openxmlformats.org/officeDocument/2006/relationships/slide" Target="slides/slide5.xml"/><Relationship Id="rId164" Type="http://schemas.openxmlformats.org/officeDocument/2006/relationships/slide" Target="slides/slide6.xml"/><Relationship Id="rId165" Type="http://schemas.openxmlformats.org/officeDocument/2006/relationships/slide" Target="slides/slide7.xml"/><Relationship Id="rId166" Type="http://schemas.openxmlformats.org/officeDocument/2006/relationships/slide" Target="slides/slide8.xml"/><Relationship Id="rId167" Type="http://schemas.openxmlformats.org/officeDocument/2006/relationships/slide" Target="slides/slide9.xml"/><Relationship Id="rId168" Type="http://schemas.openxmlformats.org/officeDocument/2006/relationships/slide" Target="slides/slide10.xml"/><Relationship Id="rId169" Type="http://schemas.openxmlformats.org/officeDocument/2006/relationships/slide" Target="slides/slide11.xml"/><Relationship Id="rId170" Type="http://schemas.openxmlformats.org/officeDocument/2006/relationships/slide" Target="slides/slide12.xml"/><Relationship Id="rId171" Type="http://schemas.openxmlformats.org/officeDocument/2006/relationships/slide" Target="slides/slide13.xml"/><Relationship Id="rId172" Type="http://schemas.openxmlformats.org/officeDocument/2006/relationships/slide" Target="slides/slide14.xml"/><Relationship Id="rId173" Type="http://schemas.openxmlformats.org/officeDocument/2006/relationships/slide" Target="slides/slide15.xml"/><Relationship Id="rId174" Type="http://schemas.openxmlformats.org/officeDocument/2006/relationships/slide" Target="slides/slide16.xml"/><Relationship Id="rId175" Type="http://schemas.openxmlformats.org/officeDocument/2006/relationships/slide" Target="slides/slide17.xml"/><Relationship Id="rId176" Type="http://schemas.openxmlformats.org/officeDocument/2006/relationships/slide" Target="slides/slide18.xml"/><Relationship Id="rId177" Type="http://schemas.openxmlformats.org/officeDocument/2006/relationships/slide" Target="slides/slide19.xml"/><Relationship Id="rId178" Type="http://schemas.openxmlformats.org/officeDocument/2006/relationships/slide" Target="slides/slide20.xml"/><Relationship Id="rId179" Type="http://schemas.openxmlformats.org/officeDocument/2006/relationships/slide" Target="slides/slide21.xml"/><Relationship Id="rId180" Type="http://schemas.openxmlformats.org/officeDocument/2006/relationships/slide" Target="slides/slide22.xml"/><Relationship Id="rId181" Type="http://schemas.openxmlformats.org/officeDocument/2006/relationships/slide" Target="slides/slide23.xml"/><Relationship Id="rId182" Type="http://schemas.openxmlformats.org/officeDocument/2006/relationships/slide" Target="slides/slide24.xml"/><Relationship Id="rId183" Type="http://schemas.openxmlformats.org/officeDocument/2006/relationships/slide" Target="slides/slide25.xml"/><Relationship Id="rId184" Type="http://schemas.openxmlformats.org/officeDocument/2006/relationships/slide" Target="slides/slide26.xml"/><Relationship Id="rId185" Type="http://schemas.openxmlformats.org/officeDocument/2006/relationships/slide" Target="slides/slide27.xml"/><Relationship Id="rId186" Type="http://schemas.openxmlformats.org/officeDocument/2006/relationships/slide" Target="slides/slide28.xml"/><Relationship Id="rId187" Type="http://schemas.openxmlformats.org/officeDocument/2006/relationships/slide" Target="slides/slide29.xml"/><Relationship Id="rId188" Type="http://schemas.openxmlformats.org/officeDocument/2006/relationships/slide" Target="slides/slide30.xml"/><Relationship Id="rId189" Type="http://schemas.openxmlformats.org/officeDocument/2006/relationships/slide" Target="slides/slide31.xml"/><Relationship Id="rId190" Type="http://schemas.openxmlformats.org/officeDocument/2006/relationships/slide" Target="slides/slide32.xml"/><Relationship Id="rId191" Type="http://schemas.openxmlformats.org/officeDocument/2006/relationships/slide" Target="slides/slide33.xml"/><Relationship Id="rId1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5" name="AutoShape 1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6" name="AutoShape 2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7" name="Text Box 3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dt" idx="169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Text Box 7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2" name="PlaceHolder 4"/>
          <p:cNvSpPr>
            <a:spLocks noGrp="1"/>
          </p:cNvSpPr>
          <p:nvPr>
            <p:ph type="sldNum" idx="170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15BEB7-472E-49F2-9BA5-8D6C6CDBEBB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BA028C-0E78-4A38-931B-C3AF0EBB9B7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88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1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8350D9-728D-4C35-B879-3ECCBE1C72B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2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E44AAB-7649-45BD-B758-1B7DD026C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2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5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461B2E-3557-41DF-BEC9-A5E92F9A52D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6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2D6657-505D-45EB-8E65-7BFDEFF1E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2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EA0C1E-3F7D-4191-A8EF-C0E2A98E84F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453E73-5158-45F6-B1A3-7B670C5D0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3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AA89DD-2B96-4CFF-8998-A35292DC4A45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4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D48C00-B8F8-4350-84CB-50733FDE4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3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7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8765FB-62A9-4217-B51A-2EA8E264B8CA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8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AAF014-F2F0-4738-937D-A746CE797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4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1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893D43-C15E-4E1D-A81B-4B315287FD74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2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EA6FC6-8C15-4AB8-825A-EA93EB5E0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4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5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47DE47-FCA5-4F37-BA5B-BB312CF81263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6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9A9160-7E2C-4E4B-8BA2-38FFC9C31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4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7BEEFF-D85D-4D4C-A33D-341E1C3938C9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EE5C9F-D8A9-4A37-8073-F3B1AA517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5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CED490-BD3B-4C45-A445-0C2510E114CB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4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0EDB5C-829F-40A1-BCC4-7CDC53065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5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7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AC89D0-2D38-4972-84BB-63F8A6A3689E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8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2B4745-6248-4BF8-9BAA-0FFD14C15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EB16B8-FCD5-4620-8322-33B122270D40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9ABF5E-AFEC-4767-87B4-8EF19543F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9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1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3EE39A-CD84-4016-B988-E507D6A4E37B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2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2A63A7-472B-4EA2-A5D5-F36274257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6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5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8FDE9C-B627-4A5E-B6B5-8451B3247F61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6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793F77-0E6D-47A7-B60C-4E6675BE8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6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1D697D-F388-4057-96E1-9D51BDA3540D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BFD81C-F5D4-4065-8189-A1CBDECBC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9A18E3-6460-4FAC-94F9-8E77462444DD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4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199886-883C-40D4-A4F3-9A15E2E14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7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7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D85F39-8178-4202-8E05-FDD593F645BB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8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811152-1020-4A6D-94B3-2A80EEAB5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8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1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3F7029-C540-4EC7-9214-2F4B45A9DC2D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2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4F8BB6-F400-4BBE-8B8C-6174E6A98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5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DF45B7-5BCC-41C9-B2D5-207AD085AFB5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6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8DC58B-2995-4662-89E5-97D04550E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8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77790C-F640-4D3D-BEF8-BD4A181470DD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E2D2E9-8AF0-4F15-92EF-DDB16E6DE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9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7C0BFF-031B-4453-9850-872B7C33EB89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4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ABB975-4815-419C-9D6A-06A081394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9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7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3F4E28-7C56-4EA9-A4C2-13BB92E6110B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8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4F325D-E9E2-4A8F-AD65-6C01243BA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0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8B4137-AAEA-4527-A691-372461DC91B4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4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889C90-D9A7-4B34-9E89-933E5DAE2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9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1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E78979-9348-4216-BB6B-E20FCD1FEE7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2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F85873-7BB1-46FD-B316-03F360EB4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0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5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10A2C6-A451-48BB-B1D8-C48D845E63B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6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A72EAA-909E-4855-921B-35F805CF5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0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F76AF4-A73F-4356-8AA8-F2AFBB81D3E0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53FEEB-425E-4326-AFFB-52105CA12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1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4E6415-1C35-4A22-B438-D456CCA6D20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15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7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6B9A20-BC54-4E47-A8DF-6FCB655D260C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8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490572-7B4C-451B-AEBF-8A437A5F9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0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1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F767C7-3306-46B7-BAFF-364604A4591B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2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A23C12-5CFF-4C9F-82CD-6066FD184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0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5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8EA46B-8B12-400D-8DF5-6A7F21D997A3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6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ACE76D-2136-4AB1-A25F-49A06AAA2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0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1F5C00-49EF-4A62-9B69-0FEAB17E73B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C382FD-D3CA-4BA0-9056-957C3CAED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1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2D86EC-2BF5-4617-A9DA-667A62D0541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4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976C8D-31B5-42A8-9D00-A31D1B2E6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1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7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FD7CF0-A756-456A-85DE-61B5FFCDA41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8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DBBD28-4B0E-4B3A-8F0D-BEAF9D7EB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2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AEFC-4385-4A7B-9577-5C4A178A7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83E1-F8BF-49A8-9149-0ED14E0D561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AC73-53F2-4FEA-B7D9-207D785C766C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3AAAC98-18A6-4E88-BA1A-CD047EF45A8D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5D0B632-2415-4D1D-BCFB-84ACC3E58E4B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E2ACA46-B109-4C33-8246-B4B1EFFBB9D8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B9E8828-37F0-4A12-8862-3C7ECF5B919A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29DF63C-FA19-439A-B562-A7D74337FAF1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F7371E9-8CD8-4FF3-85EC-4794BEDBFD25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5C0AD31-1FC1-4CF0-86B7-1C2E46F65A8C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EE042FC-21A9-43AB-B350-B63B22453019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71581F7-7B00-4745-A7F0-0E5E8B67F4C3}" type="slidenum">
              <a:t>&lt;#&gt;</a:t>
            </a:fld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2CD4A62-8E73-4FF8-8F21-8728C416FF8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B0BD-C639-44CE-A313-AC1501A5E9AA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E64BD6A-F0FC-4EEF-B969-5BA688F379DD}" type="slidenum">
              <a:t>&lt;#&gt;</a:t>
            </a:fld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CD98D0E-805C-4947-9705-4B945A55595E}" type="slidenum">
              <a:t>&lt;#&gt;</a:t>
            </a:fld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E17876B-850E-4917-8F94-E1C7BEF48BB1}" type="slidenum">
              <a:t>&lt;#&gt;</a:t>
            </a:fld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963C4A7-6687-49AE-9A87-29191057EBFC}" type="slidenum">
              <a:t>&lt;#&gt;</a:t>
            </a:fld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5124942-911C-47DA-8F6A-D8A1CF57535E}" type="slidenum">
              <a:t>&lt;#&gt;</a:t>
            </a:fld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68BFABF-023E-4CF8-9751-89CF5CE105FD}" type="slidenum">
              <a:t>&lt;#&gt;</a:t>
            </a:fld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2062222-E228-4D30-AD32-ACD14E241F90}" type="slidenum">
              <a:t>&lt;#&gt;</a:t>
            </a:fld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D193108-5684-4FC7-B687-7198424E7635}" type="slidenum">
              <a:t>&lt;#&gt;</a:t>
            </a:fld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D364D02-F16D-4531-9643-1C66B3FF8425}" type="slidenum">
              <a:t>&lt;#&gt;</a:t>
            </a:fld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6386D8D-1EE6-4C49-A218-82808047C4B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22961-505C-4C12-9260-6971421B1C3E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3B0D76E-9E76-4298-B30A-21546C3FFD67}" type="slidenum">
              <a:t>&lt;#&gt;</a:t>
            </a:fld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2B39C8-C165-4032-8D8D-775FFCD1F1A3}" type="slidenum">
              <a:t>&lt;#&gt;</a:t>
            </a:fld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8FB696-8387-406E-84A4-FAA94AE04442}" type="slidenum">
              <a:t>&lt;#&gt;</a:t>
            </a:fld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EC892C-6298-4A28-BA4E-99C45821515F}" type="slidenum">
              <a:t>&lt;#&gt;</a:t>
            </a:fld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3B39AA-4481-4522-8EA0-D48645B0C079}" type="slidenum">
              <a:t>&lt;#&gt;</a:t>
            </a:fld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99DAE2-FECA-4984-A384-07B6E15130ED}" type="slidenum">
              <a:t>&lt;#&gt;</a:t>
            </a:fld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69F09C-4FF2-4DD2-B7C6-D7826A3F79F8}" type="slidenum">
              <a:t>&lt;#&gt;</a:t>
            </a:fld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112B88-66CA-4CB9-BBD4-64F9BD8A6EFC}" type="slidenum">
              <a:t>&lt;#&gt;</a:t>
            </a:fld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9F6C99-80C0-4C07-AD59-B7AF5F3021C2}" type="slidenum">
              <a:t>&lt;#&gt;</a:t>
            </a:fld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BB0360-BBEB-4ED5-9580-54EB710C3B0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1CE5F-1D87-459A-AA89-ACCFD5459DC8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C00443-FA9C-438E-9D49-18EDE5B8564D}" type="slidenum">
              <a:t>&lt;#&gt;</a:t>
            </a:fld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7AEFBC-164C-4964-998F-C2CA70DA2287}" type="slidenum">
              <a:t>&lt;#&gt;</a:t>
            </a:fld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987323-CC8B-4588-BD5E-0757501993BE}" type="slidenum">
              <a:t>&lt;#&gt;</a:t>
            </a:fld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FB4FD12-E305-45FF-8609-2A386BA00445}" type="slidenum">
              <a:t>&lt;#&gt;</a:t>
            </a:fld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8E3491E-60E9-49BE-9D8A-CBB5B1DC8F5D}" type="slidenum">
              <a:t>&lt;#&gt;</a:t>
            </a:fld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F194BCC-07DF-4F5F-A0D2-3F5000B977A4}" type="slidenum">
              <a:t>&lt;#&gt;</a:t>
            </a:fld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3C96E42-EF75-408D-A505-D08D6A0C2FF2}" type="slidenum">
              <a:t>&lt;#&gt;</a:t>
            </a:fld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15C3CDD-D486-411E-B29E-8531B2496928}" type="slidenum">
              <a:t>&lt;#&gt;</a:t>
            </a:fld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93E10DB-3AB2-47FF-8475-117933C9D314}" type="slidenum">
              <a:t>&lt;#&gt;</a:t>
            </a:fld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12BEDFA-54AF-4155-8D1E-5EF520B2F59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5AB8B-BB85-4C6A-9058-A7870E8D3172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D60FBC8-DF8A-405C-AF95-B9517DA3B7CA}" type="slidenum">
              <a:t>&lt;#&gt;</a:t>
            </a:fld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5264E5B-CF00-4016-9840-61B5B24F8BCB}" type="slidenum">
              <a:t>&lt;#&gt;</a:t>
            </a:fld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B511009-4544-4C3E-99B0-6DCFF44C00FA}" type="slidenum">
              <a:t>&lt;#&gt;</a:t>
            </a:fld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FB11FDC-7396-4EBC-812F-DE0964D03962}" type="slidenum">
              <a:t>&lt;#&gt;</a:t>
            </a:fld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E0CD66D-5F63-45A3-AD2C-6796DB97BF1A}" type="slidenum">
              <a:t>&lt;#&gt;</a:t>
            </a:fld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BDFF624-B3A3-438F-9621-27C661CE1F9B}" type="slidenum">
              <a:t>&lt;#&gt;</a:t>
            </a:fld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EC0775F-B903-489D-AF98-9502A0E28599}" type="slidenum">
              <a:t>&lt;#&gt;</a:t>
            </a:fld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91DD603-EF3C-4B2C-A542-78CC7E1406D2}" type="slidenum">
              <a:t>&lt;#&gt;</a:t>
            </a:fld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D9FC06C-8CDD-445A-AC5A-E41DA56D8D03}" type="slidenum">
              <a:t>&lt;#&gt;</a:t>
            </a:fld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6C8D648-C935-4513-B8B0-9C01CD53EA5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4D4D5-4ED2-47C1-8F59-8062F61878B8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2C244DA-8470-4F89-9D9E-EA5ED1C4805C}" type="slidenum">
              <a:t>&lt;#&gt;</a:t>
            </a:fld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FE365DF-6DFB-40E6-9651-8F00B533D978}" type="slidenum">
              <a:t>&lt;#&gt;</a:t>
            </a:fld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C667E4C-93F9-4FB4-9E61-8F8087173DDE}" type="slidenum">
              <a:t>&lt;#&gt;</a:t>
            </a:fld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A962C27-4796-4C06-BC31-2E1CBB3D3CA5}" type="slidenum">
              <a:t>&lt;#&gt;</a:t>
            </a:fld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15F219D-BCF7-4E92-9940-A97EAC83B6AD}" type="slidenum">
              <a:t>&lt;#&gt;</a:t>
            </a:fld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89D9128-943C-4E66-8629-1904E0C1C052}" type="slidenum">
              <a:t>&lt;#&gt;</a:t>
            </a:fld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D68DF89-2ACF-43EC-8120-4A6FBF0B51C9}" type="slidenum">
              <a:t>&lt;#&gt;</a:t>
            </a:fld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76DD00-5C0A-4A88-8D54-56964B25791D}" type="slidenum">
              <a:t>&lt;#&gt;</a:t>
            </a:fld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EB4A41-6712-4F98-9B28-70DCBE6ECF5D}" type="slidenum">
              <a:t>&lt;#&gt;</a:t>
            </a:fld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00793D-02DF-4E7C-9960-260C491917F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375A-C3F6-417F-8FC6-0393899AFE04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77954B-0FBD-49F7-A2A3-B945DAE7B225}" type="slidenum">
              <a:t>&lt;#&gt;</a:t>
            </a:fld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9DE5F7-F235-494D-B57D-34111958D2C0}" type="slidenum">
              <a:t>&lt;#&gt;</a:t>
            </a:fld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7E7CDE-84A3-4783-B496-B5459A9996CE}" type="slidenum">
              <a:t>&lt;#&gt;</a:t>
            </a:fld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FA17CB-E8DD-4570-9911-7773775D7D02}" type="slidenum">
              <a:t>&lt;#&gt;</a:t>
            </a:fld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29A4AE-B1C7-4BA2-A7D1-5A135F65297E}" type="slidenum">
              <a:t>&lt;#&gt;</a:t>
            </a:fld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8E96E3-8F9B-4520-86DC-00B61CBF9500}" type="slidenum">
              <a:t>&lt;#&gt;</a:t>
            </a:fld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8F88E8-9A87-44C5-87A8-8441273E9A96}" type="slidenum">
              <a:t>&lt;#&gt;</a:t>
            </a:fld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AF9429-D7C1-41D1-A1E1-35681B66F38F}" type="slidenum">
              <a:t>&lt;#&gt;</a:t>
            </a:fld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AF4FAA-2CB8-490D-99A6-1CF8FBE09DE6}" type="slidenum">
              <a:t>&lt;#&gt;</a:t>
            </a:fld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62660BD-D4E4-478D-B578-8A11351FC19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A3AF2-15EA-4945-B551-C2D0F758F5C0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6809834-6CE6-47FB-972C-E270ECAF3811}" type="slidenum">
              <a:t>&lt;#&gt;</a:t>
            </a:fld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C285A27-2FD4-4930-BD57-5AD7BE8B3E0E}" type="slidenum">
              <a:t>&lt;#&gt;</a:t>
            </a:fld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B80EB20-49F3-4472-94A1-8CB7D12A7EF7}" type="slidenum">
              <a:t>&lt;#&gt;</a:t>
            </a:fld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B62801E-C593-4A32-906C-BF8E35762116}" type="slidenum">
              <a:t>&lt;#&gt;</a:t>
            </a:fld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A542B4A-B592-48BC-9B7E-8B214A3BA8E6}" type="slidenum">
              <a:t>&lt;#&gt;</a:t>
            </a:fld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F569A7D-6F2C-499F-9F96-FE61A736593F}" type="slidenum">
              <a:t>&lt;#&gt;</a:t>
            </a:fld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3474DF2-B4D8-4550-9319-BF0FF68FD0E9}" type="slidenum">
              <a:t>&lt;#&gt;</a:t>
            </a:fld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6ADC7A5-5CC4-4278-807B-B9B3F37B70BA}" type="slidenum">
              <a:t>&lt;#&gt;</a:t>
            </a:fld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EB6BD5B-0EFF-4DBD-BD99-949DDC51CBD4}" type="slidenum">
              <a:t>&lt;#&gt;</a:t>
            </a:fld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F628D56-92FA-4AC7-8962-A05EEEB64B7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DC09D-0D26-454B-8F8D-6924A40B84DD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822971E-D90A-44C9-90B4-2DCD79B522B8}" type="slidenum">
              <a:t>&lt;#&gt;</a:t>
            </a:fld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73198BB-85D9-43C5-8126-C978EEE30E25}" type="slidenum">
              <a:t>&lt;#&gt;</a:t>
            </a:fld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46269B9-6471-4D1C-925D-F74DFB0FC4D4}" type="slidenum">
              <a:t>&lt;#&gt;</a:t>
            </a:fld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9B3A538-931F-4920-B5C8-0A8E06445618}" type="slidenum">
              <a:t>&lt;#&gt;</a:t>
            </a:fld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EF11943-0535-4861-A366-D6AEAE5B04D4}" type="slidenum">
              <a:t>&lt;#&gt;</a:t>
            </a:fld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0D67CD6-664A-4D9E-984D-15DF84AE4530}" type="slidenum">
              <a:t>&lt;#&gt;</a:t>
            </a:fld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B3E932E-1050-48F9-AFD5-AD94DDADBB04}" type="slidenum">
              <a:t>&lt;#&gt;</a:t>
            </a:fld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D857712-616C-41B4-A9ED-DD52DD1C066B}" type="slidenum">
              <a:t>&lt;#&gt;</a:t>
            </a:fld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86DC2A2-1DDA-4AF9-8132-F314E411D2C8}" type="slidenum">
              <a:t>&lt;#&gt;</a:t>
            </a:fld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FCC1A0E-32A6-4535-A683-5A2FB030F7F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A2829B-588B-44EF-BAC6-ACAC7A76C6E8}" type="slidenum">
              <a:t>&lt;#&gt;</a:t>
            </a:fld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0802518-0407-4B34-A056-55734E0B9E49}" type="slidenum">
              <a:t>&lt;#&gt;</a:t>
            </a:fld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54EE9E6-1992-4026-8EBF-6F93BA4A7708}" type="slidenum">
              <a:t>&lt;#&gt;</a:t>
            </a:fld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BA933DB-EFA8-4E88-8EC3-FA380B06AFD9}" type="slidenum">
              <a:t>&lt;#&gt;</a:t>
            </a:fld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055056-8C8B-4AA0-ACFB-037A176EF0E6}" type="slidenum">
              <a:t>&lt;#&gt;</a:t>
            </a:fld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FF081C-9078-4D74-A494-7F9E3B76FB06}" type="slidenum">
              <a:t>&lt;#&gt;</a:t>
            </a:fld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8B7D59-30D6-4B4A-ABF8-AD102C6CD3CF}" type="slidenum">
              <a:t>&lt;#&gt;</a:t>
            </a:fld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7A68A7-F10B-423A-B628-8B0DC1E95E67}" type="slidenum">
              <a:t>&lt;#&gt;</a:t>
            </a:fld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A0F790-A8E5-4CCE-B004-F80B3ACE8FB6}" type="slidenum">
              <a:t>&lt;#&gt;</a:t>
            </a:fld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7D2E95-2E3C-4C4A-86E1-18070DE32B41}" type="slidenum">
              <a:t>&lt;#&gt;</a:t>
            </a:fld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523B12-0321-4686-931C-9D4D3C27D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84BE-9CF9-486E-904A-36CFBD47BD6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CECF7-76A0-4C54-A0CC-874C35059BA8}" type="slidenum">
              <a:t>&lt;#&gt;</a:t>
            </a:fld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60DA83-BC34-46A4-A63B-D8FBEDF019ED}" type="slidenum">
              <a:t>&lt;#&gt;</a:t>
            </a:fld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80CCE6-DF46-4094-B6F9-78D44EE12E9E}" type="slidenum">
              <a:t>&lt;#&gt;</a:t>
            </a:fld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288BF1-2508-466F-827C-9C5955B46CF4}" type="slidenum">
              <a:t>&lt;#&gt;</a:t>
            </a:fld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8223DD-540A-4E85-81B7-F16B200AF479}" type="slidenum">
              <a:t>&lt;#&gt;</a:t>
            </a:fld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D101C6-DEA6-46E5-98AC-3029C9748991}" type="slidenum">
              <a:t>&lt;#&gt;</a:t>
            </a:fld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8601025-D734-4171-A2E2-6BF164A58470}" type="slidenum">
              <a:t>&lt;#&gt;</a:t>
            </a:fld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B1919EF-BDB9-47E9-AF46-C2AE597D066B}" type="slidenum">
              <a:t>&lt;#&gt;</a:t>
            </a:fld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C86B048-0DD4-43AE-8423-64B81FE9D1ED}" type="slidenum">
              <a:t>&lt;#&gt;</a:t>
            </a:fld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12C3350-4C28-41AC-8BE1-3EA0090B4E93}" type="slidenum">
              <a:t>&lt;#&gt;</a:t>
            </a:fld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66E0333-8CDA-4170-BB15-825C5DE8E93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32714-A580-47D0-ABAD-8B8D30609E18}" type="slidenum">
              <a:t>&lt;#&gt;</a:t>
            </a:fld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B3292E1-E28C-4550-B9BD-EF39A3C67ECF}" type="slidenum">
              <a:t>&lt;#&gt;</a:t>
            </a:fld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D217225-10D4-428F-B474-D9E06D14C008}" type="slidenum">
              <a:t>&lt;#&gt;</a:t>
            </a:fld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A2B0A76-B71F-4B07-AF37-1A1A4D7E5CAE}" type="slidenum">
              <a:t>&lt;#&gt;</a:t>
            </a:fld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EC7BBA3-4D92-490C-AB46-15A68E8AAD3F}" type="slidenum">
              <a:t>&lt;#&gt;</a:t>
            </a:fld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5C2977D-5B00-4736-98D9-06D9286F9891}" type="slidenum">
              <a:t>&lt;#&gt;</a:t>
            </a:fld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20207C7-1144-4D83-AB43-FBDB9E0E6E59}" type="slidenum">
              <a:t>&lt;#&gt;</a:t>
            </a:fld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1B99905-C58B-42AA-9459-64E5F2D9623E}" type="slidenum">
              <a:t>&lt;#&gt;</a:t>
            </a:fld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8D94545-F8C1-467E-A9C4-254B3155A8F4}" type="slidenum">
              <a:t>&lt;#&gt;</a:t>
            </a:fld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8264363-A09C-4132-AC8F-9859CBC11539}" type="slidenum">
              <a:t>&lt;#&gt;</a:t>
            </a:fld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3EAEBA1-BAFC-457E-BD3B-0987D60C784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950A34-C92C-4265-AEE2-ADE833E2BD5E}" type="slidenum">
              <a:t>&lt;#&gt;</a:t>
            </a:fld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CE6F3AB-55B8-4D65-B391-B6EB855D6210}" type="slidenum">
              <a:t>&lt;#&gt;</a:t>
            </a:fld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1D33A9A-4B1C-455E-9F93-D1761141A38D}" type="slidenum">
              <a:t>&lt;#&gt;</a:t>
            </a:fld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DED0F69-0E89-4CC0-A1FA-4EECEB9ADB9D}" type="slidenum">
              <a:t>&lt;#&gt;</a:t>
            </a:fld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0188726-030E-4BD0-96A9-DB9FAB8D22FA}" type="slidenum">
              <a:t>&lt;#&gt;</a:t>
            </a:fld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D2041F7-CF25-49AC-8541-14123C86E0FB}" type="slidenum">
              <a:t>&lt;#&gt;</a:t>
            </a:fld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FACC94F-A796-4742-9B75-22CAC05E62FC}" type="slidenum">
              <a:t>&lt;#&gt;</a:t>
            </a:fld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E4786D4-EC96-46E5-8D38-E417CAFEEB51}" type="slidenum">
              <a:t>&lt;#&gt;</a:t>
            </a:fld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5C0641D-FCE2-499A-8D4D-E9CAF39F1AAF}" type="slidenum">
              <a:t>&lt;#&gt;</a:t>
            </a:fld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F3A9A8E-FE5C-4FD8-A2B2-FDDBF7E2395A}" type="slidenum">
              <a:t>&lt;#&gt;</a:t>
            </a:fld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670DD9-5C97-442D-BC1E-8C568F05523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E7D028-0D8E-403A-86A8-51035F2EDACA}" type="slidenum">
              <a:t>&lt;#&gt;</a:t>
            </a:fld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6E94A7-C55E-4193-98BF-E7FB238FC4C2}" type="slidenum">
              <a:t>&lt;#&gt;</a:t>
            </a:fld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7BAF72-1DA7-4706-9490-3DB5E8A95B57}" type="slidenum">
              <a:t>&lt;#&gt;</a:t>
            </a:fld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337D53-51FF-428F-9884-9AFC204DA428}" type="slidenum">
              <a:t>&lt;#&gt;</a:t>
            </a:fld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EB7B02-4584-4752-9F52-0A764AF14494}" type="slidenum">
              <a:t>&lt;#&gt;</a:t>
            </a:fld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87A972-F1A8-4B61-8C9A-96DAFC4DF342}" type="slidenum">
              <a:t>&lt;#&gt;</a:t>
            </a:fld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46A8DB-FE7C-41FF-8A6E-7B03FA089013}" type="slidenum">
              <a:t>&lt;#&gt;</a:t>
            </a:fld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453504-1D7C-41A0-A70E-F8DA4FF29196}" type="slidenum">
              <a:t>&lt;#&gt;</a:t>
            </a:fld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E44F13-C8E4-45B5-91E5-CB8037312860}" type="slidenum">
              <a:t>&lt;#&gt;</a:t>
            </a:fld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CA9F48-8844-490A-81B7-6A9A8E0767B0}" type="slidenum">
              <a:t>&lt;#&gt;</a:t>
            </a:fld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C4B3F85-A781-480E-A345-33C75AF06D7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7CAC05-92EF-4E7B-A91D-2145FE6E1298}" type="slidenum">
              <a:t>&lt;#&gt;</a:t>
            </a:fld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087228-25A9-433A-9E51-DD874A50857D}" type="slidenum">
              <a:t>&lt;#&gt;</a:t>
            </a:fld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CE37DD8-290A-4D63-B672-AF071A1445A6}" type="slidenum">
              <a:t>&lt;#&gt;</a:t>
            </a:fld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EF56474-6999-46A8-814D-52AEF9995905}" type="slidenum">
              <a:t>&lt;#&gt;</a:t>
            </a:fld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D752A9D-C307-4327-B26B-92B9329BFEA2}" type="slidenum">
              <a:t>&lt;#&gt;</a:t>
            </a:fld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AAA244E-CDE8-4E3C-8421-5E954180710E}" type="slidenum">
              <a:t>&lt;#&gt;</a:t>
            </a:fld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78B5281-9D44-4B11-B5BE-D83540DB5DD2}" type="slidenum">
              <a:t>&lt;#&gt;</a:t>
            </a:fld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49335F5-B39A-4EF5-B3FB-FE47D9296797}" type="slidenum">
              <a:t>&lt;#&gt;</a:t>
            </a:fld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DCDF3EA-31AE-46A1-B658-BAD6DE1BF008}" type="slidenum">
              <a:t>&lt;#&gt;</a:t>
            </a:fld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915C1B4-9BA5-43EB-8C7E-FF0256AAD7B9}" type="slidenum">
              <a:t>&lt;#&gt;</a:t>
            </a:fld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5299265-D49B-456A-A41D-A55D00BA763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F1C693-EE59-4B82-B2EA-FEF6BAADDC66}" type="slidenum">
              <a:t>&lt;#&gt;</a:t>
            </a:fld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13987DF-34E8-424A-B60F-39186B5D311E}" type="slidenum">
              <a:t>&lt;#&gt;</a:t>
            </a:fld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AE39C95-0269-4F5E-B45F-7225B5D67C63}" type="slidenum">
              <a:t>&lt;#&gt;</a:t>
            </a:fld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6C02157-0A27-4619-8D6E-8C053D2A3B3D}" type="slidenum">
              <a:t>&lt;#&gt;</a:t>
            </a:fld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0770565-5BA0-4C13-889F-43743076DF07}" type="slidenum">
              <a:t>&lt;#&gt;</a:t>
            </a:fld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D0F46E5-D217-4344-96A1-EBA5D805F519}" type="slidenum">
              <a:t>&lt;#&gt;</a:t>
            </a:fld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3303BBE-5DBF-4E56-A3F0-F988F64963B0}" type="slidenum">
              <a:t>&lt;#&gt;</a:t>
            </a:fld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8B32F76-8091-4018-8064-8F414C3B63D7}" type="slidenum">
              <a:t>&lt;#&gt;</a:t>
            </a:fld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16EB5A9-B4AA-4BE8-8F06-1A51B503FF54}" type="slidenum">
              <a:t>&lt;#&gt;</a:t>
            </a:fld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617515F-103E-41CA-882D-8E85AD64C491}" type="slidenum">
              <a:t>&lt;#&gt;</a:t>
            </a:fld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AC8042F-332B-4A48-9B6F-729A903A620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E41BF4-100B-4DA0-A35D-5E99DC185D64}" type="slidenum">
              <a:t>&lt;#&gt;</a:t>
            </a:fld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43670DE-1250-454B-BBF0-9ED1BF7962F1}" type="slidenum">
              <a:t>&lt;#&gt;</a:t>
            </a:fld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2FA9562-F144-48B5-BE88-2F85C530BEF9}" type="slidenum">
              <a:t>&lt;#&gt;</a:t>
            </a:fld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6B69548-36BA-42BF-92BF-0B548A45FFA7}" type="slidenum">
              <a:t>&lt;#&gt;</a:t>
            </a:fld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F792D4D-176D-469D-812C-BA93CF5A0EB2}" type="slidenum">
              <a:t>&lt;#&gt;</a:t>
            </a:fld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6D8324E-3014-4F72-8004-2BE2B15331E9}" type="slidenum">
              <a:t>&lt;#&gt;</a:t>
            </a:fld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5450C66-F6EA-4D09-9768-F34C73A674E7}" type="slidenum">
              <a:t>&lt;#&gt;</a:t>
            </a:fld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BFD9F3-0DC3-4A2B-8F38-ADB6A4B47568}" type="slidenum">
              <a:t>&lt;#&gt;</a:t>
            </a:fld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6FB2EB-80B7-4D72-BFA8-A7ED270A267B}" type="slidenum">
              <a:t>&lt;#&gt;</a:t>
            </a:fld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622C70-93F0-4EEE-9908-63F38EA48684}" type="slidenum">
              <a:t>&lt;#&gt;</a:t>
            </a:fld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C21775-FD4C-4161-B11F-0D0D0F3869B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A79F81-FD76-420D-B323-B067AA528413}" type="slidenum">
              <a:t>&lt;#&gt;</a:t>
            </a:fld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DE7339-4128-46D6-A08F-6C995329657E}" type="slidenum">
              <a:t>&lt;#&gt;</a:t>
            </a:fld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8264F6-9547-4487-9751-66ABB4FE96DC}" type="slidenum">
              <a:t>&lt;#&gt;</a:t>
            </a:fld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5575B8-9787-4C44-A687-9D6B91589667}" type="slidenum">
              <a:t>&lt;#&gt;</a:t>
            </a:fld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B9CA69-A1E0-4846-8D20-42758E2E21D8}" type="slidenum">
              <a:t>&lt;#&gt;</a:t>
            </a:fld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5E47723-5D87-4CDF-960D-D2B617B57BCE}" type="slidenum">
              <a:t>&lt;#&gt;</a:t>
            </a:fld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6C5795-062F-4421-9EA3-7B41D5BBAA21}" type="slidenum">
              <a:t>&lt;#&gt;</a:t>
            </a:fld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684C67-C5B7-44FC-9B0A-C097C4A9EE5A}" type="slidenum">
              <a:t>&lt;#&gt;</a:t>
            </a:fld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EC3D408-F651-491B-9FC7-DA12ED4A44D5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32ED2CE-2543-423C-8E63-5E6E94C0C5A0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8A5C611-377E-4820-894D-B821349372A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DE4A39-9487-4A44-9209-5B7D369512A6}" type="slidenum">
              <a:t>&lt;#&gt;</a:t>
            </a:fld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A477D2E-ACC5-43DB-8F8E-4B286E741938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7FB286F-A2B8-4604-855E-666CBF57D0A5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A6B3F42-5D41-4C40-A577-E59483BAD550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D94EA53-CED6-4A98-972C-2AA22BA91B81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43CCF40-A85D-4BEB-97BA-6BB46DBEA2F4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0122417-FB9A-4F58-906D-FBF51CB0AD03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07281F9-A706-4E29-9FC6-E91AAF442392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4AFC9DF-2C10-4D08-8F79-BD567B495935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80C5EF3-1BD8-465D-AC34-A0678312CAFE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F82BE72-13C5-4D0A-A045-4EE8E66F906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C829FB-E3AC-4B53-BEAC-343184BD57CC}" type="slidenum">
              <a:t>&lt;#&gt;</a:t>
            </a:fld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EE1406C-EF46-45CF-8294-C2CAA7655A15}" type="slidenum">
              <a:t>&lt;#&gt;</a:t>
            </a:fld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6B7E238-A82A-47F8-8355-8CC527F72E77}" type="slidenum">
              <a:t>&lt;#&gt;</a:t>
            </a:fld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2F21C22-4F56-4F98-8A05-12D32AC2769C}" type="slidenum">
              <a:t>&lt;#&gt;</a:t>
            </a:fld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C0CB0CE-03B0-4593-88E1-E3D3F2ADD2B1}" type="slidenum">
              <a:t>&lt;#&gt;</a:t>
            </a:fld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3078AFD-3578-4508-BE7A-A2E2BDAE2612}" type="slidenum">
              <a:t>&lt;#&gt;</a:t>
            </a:fld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C4FA820-F236-4C8B-95CF-432B02813E19}" type="slidenum">
              <a:t>&lt;#&gt;</a:t>
            </a:fld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F6DFABA-4BA1-41BB-B6EE-408273DFCB59}" type="slidenum">
              <a:t>&lt;#&gt;</a:t>
            </a:fld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03A7F1E-D5E9-42F9-9821-DFF9A0EBF4E4}" type="slidenum">
              <a:t>&lt;#&gt;</a:t>
            </a:fld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7C1E0B5-EC92-432C-A741-8EA5FDE81181}" type="slidenum">
              <a:t>&lt;#&gt;</a:t>
            </a:fld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F188DB3-696C-48CA-B046-4FBBE9329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A5A1-2319-4EEF-B7E2-16ABC3D49E3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7FC73-C2AC-44C4-9BED-C8DAB9A5A3FD}" type="slidenum">
              <a:t>&lt;#&gt;</a:t>
            </a:fld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E44A351-58E7-463E-9C1A-1D15DDC5A6BD}" type="slidenum">
              <a:t>&lt;#&gt;</a:t>
            </a:fld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6DC712-835B-4E24-A778-49558D02B84B}" type="slidenum">
              <a:t>&lt;#&gt;</a:t>
            </a:fld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DB432E-A56E-4973-811E-78708BCBEA8F}" type="slidenum">
              <a:t>&lt;#&gt;</a:t>
            </a:fld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E0C61E-0A31-4263-9E17-756D198FC1D8}" type="slidenum">
              <a:t>&lt;#&gt;</a:t>
            </a:fld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60DAC2-D2E8-4CDE-958A-60ADA0B62EC3}" type="slidenum">
              <a:t>&lt;#&gt;</a:t>
            </a:fld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91F679-0CCF-4CB5-97C4-D63BD4A3EE27}" type="slidenum">
              <a:t>&lt;#&gt;</a:t>
            </a:fld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5B7A94-8052-46CE-9D90-F719947BAE78}" type="slidenum">
              <a:t>&lt;#&gt;</a:t>
            </a:fld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B622CB-8541-4B98-A7D4-AA01D9761A64}" type="slidenum">
              <a:t>&lt;#&gt;</a:t>
            </a:fld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3B8370-45EA-4CC0-B789-D64260883CC9}" type="slidenum">
              <a:t>&lt;#&gt;</a:t>
            </a:fld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C3858A-C868-498A-A43B-A559C880D45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661A4F-CADD-4F8F-AAE9-1948B035806E}" type="slidenum">
              <a:t>&lt;#&gt;</a:t>
            </a:fld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60581C-C66E-46D6-A5AF-A185B7746096}" type="slidenum">
              <a:t>&lt;#&gt;</a:t>
            </a:fld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58461E-E733-4A8B-8309-AB806C347A3A}" type="slidenum">
              <a:t>&lt;#&gt;</a:t>
            </a:fld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C6C4E3-5C39-41E8-8848-83699F21D25A}" type="slidenum">
              <a:t>&lt;#&gt;</a:t>
            </a:fld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05774A1-98E1-4828-90A0-22C31AAE476A}" type="slidenum">
              <a:t>&lt;#&gt;</a:t>
            </a:fld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FE2D6A2-E8E0-453E-BAF8-476BADCA7C95}" type="slidenum">
              <a:t>&lt;#&gt;</a:t>
            </a:fld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5408D15-E0B3-4352-BADD-E35F787717D4}" type="slidenum">
              <a:t>&lt;#&gt;</a:t>
            </a:fld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CF6945A-0F27-4799-BAB7-9D0B4BE0995C}" type="slidenum">
              <a:t>&lt;#&gt;</a:t>
            </a:fld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A4F86D4-8501-4611-AA96-A50CBC24B7BC}" type="slidenum">
              <a:t>&lt;#&gt;</a:t>
            </a:fld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F540A29-028A-468B-9142-32A9C9CF5281}" type="slidenum">
              <a:t>&lt;#&gt;</a:t>
            </a:fld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53E1E26-50D7-404E-9940-DE766BBF456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DFF51F-FE7A-4BB9-85BE-3DB91654E9AF}" type="slidenum">
              <a:t>&lt;#&gt;</a:t>
            </a:fld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FE022B0-0E4B-4ECA-8DB0-FEEA22A4FEA8}" type="slidenum">
              <a:t>&lt;#&gt;</a:t>
            </a:fld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81D7475-8B4A-44F8-A804-C6ED75543E3B}" type="slidenum">
              <a:t>&lt;#&gt;</a:t>
            </a:fld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FD99641-5364-4082-99AA-556C382101B1}" type="slidenum">
              <a:t>&lt;#&gt;</a:t>
            </a:fld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2EC781C-6EB2-4E47-87DA-EE9AA6B8C767}" type="slidenum">
              <a:t>&lt;#&gt;</a:t>
            </a:fld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41991E2-3DFB-48FA-9E79-AB7D83A04E07}" type="slidenum">
              <a:t>&lt;#&gt;</a:t>
            </a:fld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5BDB316-0400-4B52-BF4F-19A10629BE2F}" type="slidenum">
              <a:t>&lt;#&gt;</a:t>
            </a:fld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6527C08-80A0-4FE5-B3F3-A1FBBE65477D}" type="slidenum">
              <a:t>&lt;#&gt;</a:t>
            </a:fld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E19C10A-519C-4047-A28A-D49D7AAF5134}" type="slidenum">
              <a:t>&lt;#&gt;</a:t>
            </a:fld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7A0FF56-DBF0-41F1-8A40-81F05B1E38DF}" type="slidenum">
              <a:t>&lt;#&gt;</a:t>
            </a:fld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678127D-EF34-42F3-BE21-E345ABE4F61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C92A8-1608-4F8E-A9A1-9FFE4A0E2BAA}" type="slidenum">
              <a:t>&lt;#&gt;</a:t>
            </a:fld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000AC11-D84B-4386-AF76-8392590C8F89}" type="slidenum">
              <a:t>&lt;#&gt;</a:t>
            </a:fld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2A74162-42EF-4003-A33F-23F9C0666653}" type="slidenum">
              <a:t>&lt;#&gt;</a:t>
            </a:fld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F7D64FC-ADBA-4A4F-B2F9-D83B4494E0A0}" type="slidenum">
              <a:t>&lt;#&gt;</a:t>
            </a:fld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C408D14-A3E0-4AEC-9128-34607FB95DC3}" type="slidenum">
              <a:t>&lt;#&gt;</a:t>
            </a:fld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1FBE934-C290-4083-B84E-E8405F8890D8}" type="slidenum">
              <a:t>&lt;#&gt;</a:t>
            </a:fld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B090152-0DBB-4036-A3CE-96BA73B9B9E7}" type="slidenum">
              <a:t>&lt;#&gt;</a:t>
            </a:fld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632607E-F480-4001-B786-42291EAA2EF7}" type="slidenum">
              <a:t>&lt;#&gt;</a:t>
            </a:fld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6CA7E9-7EE8-4D1C-92C9-2C8CF61E9D23}" type="slidenum">
              <a:t>&lt;#&gt;</a:t>
            </a:fld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1D994C-BA1A-4981-96BD-AD906FCE921B}" type="slidenum">
              <a:t>&lt;#&gt;</a:t>
            </a:fld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3607AE-B3E1-4BB6-83C6-2C3939630BD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505141-4EFD-4EFA-80A9-0D52E3D289B0}" type="slidenum">
              <a:t>&lt;#&gt;</a:t>
            </a:fld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4DD8D1-C278-45D8-8AA6-D4A66FE3D1DF}" type="slidenum">
              <a:t>&lt;#&gt;</a:t>
            </a:fld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98ABC6-F2F9-4C44-B409-738A27A222DA}" type="slidenum">
              <a:t>&lt;#&gt;</a:t>
            </a:fld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9DE258-D379-4B21-9C0D-6998AB1BFB30}" type="slidenum">
              <a:t>&lt;#&gt;</a:t>
            </a:fld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5073CD-D90A-4ABC-BC4F-275233FC297B}" type="slidenum">
              <a:t>&lt;#&gt;</a:t>
            </a:fld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2DD97C0-F32F-4CFE-92DA-E42CF4C4D82C}" type="slidenum">
              <a:t>&lt;#&gt;</a:t>
            </a:fld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CEC123-939A-422C-88CB-0670FCDB25FD}" type="slidenum">
              <a:t>&lt;#&gt;</a:t>
            </a:fld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93C9D7-CD05-4656-B5D0-EAC5025DE331}" type="slidenum">
              <a:t>&lt;#&gt;</a:t>
            </a:fld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31ED9A-93B0-468D-9630-F55923AF6AA9}" type="slidenum">
              <a:t>&lt;#&gt;</a:t>
            </a:fld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03A4DE-02AE-4A12-B677-51AFDB90A506}" type="slidenum">
              <a:t>&lt;#&gt;</a:t>
            </a:fld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6C2F8EC-3429-4343-B5EE-94B0654FC75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E599F0-FC26-441B-82F6-ECFAC5049EB3}" type="slidenum">
              <a:t>&lt;#&gt;</a:t>
            </a:fld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1654F8B-7857-4221-B715-3A408D9D1A0B}" type="slidenum">
              <a:t>&lt;#&gt;</a:t>
            </a:fld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6B3A210-8E70-4671-98F9-426DECA341B4}" type="slidenum">
              <a:t>&lt;#&gt;</a:t>
            </a:fld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A6C1640-A0AC-4D8A-88E8-F0B9FD0E1623}" type="slidenum">
              <a:t>&lt;#&gt;</a:t>
            </a:fld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B937CAC-C778-4195-97AA-25C08081EEC7}" type="slidenum">
              <a:t>&lt;#&gt;</a:t>
            </a:fld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E1D1D5D-56DA-4234-9FDA-2B1C909CE3FA}" type="slidenum">
              <a:t>&lt;#&gt;</a:t>
            </a:fld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0CFE836-79FC-43EF-8C20-0B1304E9C313}" type="slidenum">
              <a:t>&lt;#&gt;</a:t>
            </a:fld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45DB9B0-0DD5-42C0-95B6-38E643903BB9}" type="slidenum">
              <a:t>&lt;#&gt;</a:t>
            </a:fld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36396CE-7C63-451F-95B7-8602BC662269}" type="slidenum">
              <a:t>&lt;#&gt;</a:t>
            </a:fld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9C48A45-49DF-46BD-A548-A5E0045897DF}" type="slidenum">
              <a:t>&lt;#&gt;</a:t>
            </a:fld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40383D0-3EFC-4B5D-B189-B7B6E228384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02817-A88C-4E9C-9617-289145F329FE}" type="slidenum">
              <a:t>&lt;#&gt;</a:t>
            </a:fld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A39919D-E981-4310-B264-1912468E28EC}" type="slidenum">
              <a:t>&lt;#&gt;</a:t>
            </a:fld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D041B5D-A2BA-4893-A3BD-8B30AEEC123E}" type="slidenum">
              <a:t>&lt;#&gt;</a:t>
            </a:fld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5E69C29-E47C-4DEA-91DF-88B793E8C056}" type="slidenum">
              <a:t>&lt;#&gt;</a:t>
            </a:fld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81AAC70-F6DD-4F29-BA2A-0664158932AF}" type="slidenum">
              <a:t>&lt;#&gt;</a:t>
            </a:fld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C529A4C-6329-47E2-9598-669202A27105}" type="slidenum">
              <a:t>&lt;#&gt;</a:t>
            </a:fld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6D31613-B681-4F4B-8A79-DE63F921B040}" type="slidenum">
              <a:t>&lt;#&gt;</a:t>
            </a:fld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35CEB9E-B991-4E16-9661-56285C446CEC}" type="slidenum">
              <a:t>&lt;#&gt;</a:t>
            </a:fld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FBBDFB9-F0FF-4AEA-9C5D-79AF66480A7D}" type="slidenum">
              <a:t>&lt;#&gt;</a:t>
            </a:fld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5CFBD8C-67CA-47C4-B296-14037AA8A9C4}" type="slidenum">
              <a:t>&lt;#&gt;</a:t>
            </a:fld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07D4B55-D67C-4B4D-B6A7-B6D519E6ABF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84975-6EB9-48AB-B354-403321FA3D4D}" type="slidenum">
              <a:t>&lt;#&gt;</a:t>
            </a:fld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DAD9630-FC0F-4761-AFE9-AB183B38CBCD}" type="slidenum">
              <a:t>&lt;#&gt;</a:t>
            </a:fld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359137B-A64D-4A5A-9DD6-9FFD7F316D47}" type="slidenum">
              <a:t>&lt;#&gt;</a:t>
            </a:fld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4B65A8B-792C-489D-BA25-4190F01A0803}" type="slidenum">
              <a:t>&lt;#&gt;</a:t>
            </a:fld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E7C98E-AEB0-45E0-8A89-0BFE7063F860}" type="slidenum">
              <a:t>&lt;#&gt;</a:t>
            </a:fld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3B0921B-D2CD-4A21-8617-6978D8462640}" type="slidenum">
              <a:t>&lt;#&gt;</a:t>
            </a:fld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70C9C9-6DAF-4828-99E6-08CAFA683335}" type="slidenum">
              <a:t>&lt;#&gt;</a:t>
            </a:fld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B69AFB1-6C33-4ACC-A204-0BC2285BB690}" type="slidenum">
              <a:t>&lt;#&gt;</a:t>
            </a:fld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972A32-74BD-479E-99D4-E598D7C3ECFA}" type="slidenum">
              <a:t>&lt;#&gt;</a:t>
            </a:fld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0A8D93-5F0E-4319-B7B0-D259D5CE85F2}" type="slidenum">
              <a:t>&lt;#&gt;</a:t>
            </a:fld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F0DD2C-7984-4717-9885-A750A1CD86D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F9037-F755-4DEC-83DD-503FDEAC27F7}" type="slidenum">
              <a:t>&lt;#&gt;</a:t>
            </a:fld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B01651-98D2-4178-9414-3A9616019A63}" type="slidenum">
              <a:t>&lt;#&gt;</a:t>
            </a:fld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D65720-646C-4CC7-94D4-27ECBEDC453E}" type="slidenum">
              <a:t>&lt;#&gt;</a:t>
            </a:fld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2662CB-3BBD-4334-9C11-4C26E674F94A}" type="slidenum">
              <a:t>&lt;#&gt;</a:t>
            </a:fld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53BB93-47A4-49BA-ABEB-A54C3983B561}" type="slidenum">
              <a:t>&lt;#&gt;</a:t>
            </a:fld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36C961-CDA6-410D-B84B-4FC41A2DB57D}" type="slidenum">
              <a:t>&lt;#&gt;</a:t>
            </a:fld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C1ED3E4-A783-4243-B7A3-3F605372D5C3}" type="slidenum">
              <a:t>&lt;#&gt;</a:t>
            </a:fld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FA72A8B-1924-4820-B825-DB0C4BC42CCB}" type="slidenum">
              <a:t>&lt;#&gt;</a:t>
            </a:fld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F356307-7103-4794-888F-61A726D4410E}" type="slidenum">
              <a:t>&lt;#&gt;</a:t>
            </a:fld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FE937B4-CB0D-4050-9BF8-B1923262F118}" type="slidenum">
              <a:t>&lt;#&gt;</a:t>
            </a:fld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1FF55E7-105A-49E9-9A4E-EBE99D82ED7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EBF14D-E2B7-4E91-9831-546D717C24BF}" type="slidenum">
              <a:t>&lt;#&gt;</a:t>
            </a:fld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66C6EE3-57DB-4403-88E1-B12AF3482C0A}" type="slidenum">
              <a:t>&lt;#&gt;</a:t>
            </a:fld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77DE6D5-EF7C-479B-BDD0-F11471C860F3}" type="slidenum">
              <a:t>&lt;#&gt;</a:t>
            </a:fld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43EDFE9-9B8B-4FEE-A43B-6790A925EC63}" type="slidenum">
              <a:t>&lt;#&gt;</a:t>
            </a:fld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A1BB11F-6B94-4A08-8F8E-ACA836531A55}" type="slidenum">
              <a:t>&lt;#&gt;</a:t>
            </a:fld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8506876-6552-424E-8A1D-B0B11839FD0F}" type="slidenum">
              <a:t>&lt;#&gt;</a:t>
            </a:fld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6DC45FE-40D7-4AAE-BC6F-67990E8E98BB}" type="slidenum">
              <a:t>&lt;#&gt;</a:t>
            </a:fld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CD37430-2347-4A2E-95CD-1423A0EE1C8F}" type="slidenum">
              <a:t>&lt;#&gt;</a:t>
            </a:fld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F875FB9-5744-4469-8DD1-24276059DA15}" type="slidenum">
              <a:t>&lt;#&gt;</a:t>
            </a:fld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3BE54FD-C049-4A36-9937-139DC1784BB5}" type="slidenum">
              <a:t>&lt;#&gt;</a:t>
            </a:fld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A721690-941B-4A8A-B736-0FAEB6E2D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4A6CD-5808-40F9-ABD4-18007E09EEC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E9F084-075E-4E6C-AD8B-9DF90FFFCEC9}" type="slidenum">
              <a:t>&lt;#&gt;</a:t>
            </a:fld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97A6181-8B43-4962-B45B-B7E7F8211F83}" type="slidenum">
              <a:t>&lt;#&gt;</a:t>
            </a:fld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8028EE1-3B2C-4817-97D6-ED28C4D828D3}" type="slidenum">
              <a:t>&lt;#&gt;</a:t>
            </a:fld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9C84D7D-05A6-49AD-B28F-7629CA108221}" type="slidenum">
              <a:t>&lt;#&gt;</a:t>
            </a:fld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1772DFD-9ED0-4C9A-A618-37CFFEA25864}" type="slidenum">
              <a:t>&lt;#&gt;</a:t>
            </a:fld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9C71E31-2A1A-469E-A054-CEDCA209B4BA}" type="slidenum">
              <a:t>&lt;#&gt;</a:t>
            </a:fld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10F1F4B-8154-4AD0-8C27-40AB169A1597}" type="slidenum">
              <a:t>&lt;#&gt;</a:t>
            </a:fld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289DB00-D731-47D4-966B-A41F9A212D88}" type="slidenum">
              <a:t>&lt;#&gt;</a:t>
            </a:fld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21AB78B-E0A9-4614-B2D1-EE698D27006F}" type="slidenum">
              <a:t>&lt;#&gt;</a:t>
            </a:fld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939313D-18CE-4B92-A8B5-18CE135B4229}" type="slidenum">
              <a:t>&lt;#&gt;</a:t>
            </a:fld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940AA7-6AD0-4415-B969-678F1C055F4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8693E-3E89-41B1-9F26-DF8F9417BB7C}" type="slidenum">
              <a:t>&lt;#&gt;</a:t>
            </a:fld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7210E6-DB55-4F23-A42A-AAE7196319F9}" type="slidenum">
              <a:t>&lt;#&gt;</a:t>
            </a:fld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313BE0-3EF6-46CE-812E-030B9D8BCCDC}" type="slidenum">
              <a:t>&lt;#&gt;</a:t>
            </a:fld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EBC8C6-96A7-410C-92C4-0D64F8E898D3}" type="slidenum">
              <a:t>&lt;#&gt;</a:t>
            </a:fld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9DB4A2-0CBE-4E86-98CA-184E66AC52DF}" type="slidenum">
              <a:t>&lt;#&gt;</a:t>
            </a:fld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7BC1C9-93B8-4B9B-B361-BDBD8B18C77C}" type="slidenum">
              <a:t>&lt;#&gt;</a:t>
            </a:fld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2C114F-B76B-484A-95EC-4A7F22FF5E99}" type="slidenum">
              <a:t>&lt;#&gt;</a:t>
            </a:fld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27FF7A-3E1D-4B26-BA84-89E01E735C29}" type="slidenum">
              <a:t>&lt;#&gt;</a:t>
            </a:fld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21E93B-898E-4870-A705-52DD7262A8B1}" type="slidenum">
              <a:t>&lt;#&gt;</a:t>
            </a:fld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2BC2AE-8012-4B39-90BD-392F4BA44B04}" type="slidenum">
              <a:t>&lt;#&gt;</a:t>
            </a:fld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183B36-9A3A-42AA-9796-67B49E2ADD0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E240F-3EC1-40BF-B0E2-374FA1749F83}" type="slidenum">
              <a:t>&lt;#&gt;</a:t>
            </a:fld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494A64-BCB7-4510-B3AB-3C6AFB36EC0E}" type="slidenum">
              <a:t>&lt;#&gt;</a:t>
            </a:fld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0675A4E-1A6A-48F9-947F-3144E1DBF209}" type="slidenum">
              <a:t>&lt;#&gt;</a:t>
            </a:fld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1470CAD-AFA4-4602-B520-0199C6BFE82A}" type="slidenum">
              <a:t>&lt;#&gt;</a:t>
            </a:fld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C265831-1E0D-4318-808A-9E99EC5D0235}" type="slidenum">
              <a:t>&lt;#&gt;</a:t>
            </a:fld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5CD4979-6779-4741-A184-51E612432C2D}" type="slidenum">
              <a:t>&lt;#&gt;</a:t>
            </a:fld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A64EF92-7323-40F6-B416-4EDC6B2D230F}" type="slidenum">
              <a:t>&lt;#&gt;</a:t>
            </a:fld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6D5E39B-2C49-442F-A6A7-84469DE7C77B}" type="slidenum">
              <a:t>&lt;#&gt;</a:t>
            </a:fld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3A4C0D3-7761-40AD-B775-82E2B391A4E1}" type="slidenum">
              <a:t>&lt;#&gt;</a:t>
            </a:fld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66DCF83-69F8-4225-A3C6-060A3690C288}" type="slidenum">
              <a:t>&lt;#&gt;</a:t>
            </a:fld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6F535AC-F5E0-4805-973C-53E870A24E6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853BF-D67B-4FB9-878E-0D5327CBBDD4}" type="slidenum">
              <a:t>&lt;#&gt;</a:t>
            </a:fld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FACC867-E9D4-4900-A2EB-96BDC68A354D}" type="slidenum">
              <a:t>&lt;#&gt;</a:t>
            </a:fld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61439F7-17BF-4A05-A2B0-69A4F6318038}" type="slidenum">
              <a:t>&lt;#&gt;</a:t>
            </a:fld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E96C01D-F420-4BE7-8A77-1DBCFB38DD50}" type="slidenum">
              <a:t>&lt;#&gt;</a:t>
            </a:fld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C0C26AF-2FFD-455A-B049-42BAA9C5839F}" type="slidenum">
              <a:t>&lt;#&gt;</a:t>
            </a:fld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C7E0864-651C-4CC0-B1C1-FBFD1B3AFE47}" type="slidenum">
              <a:t>&lt;#&gt;</a:t>
            </a:fld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738D9CF-DCC1-4DBF-97EB-492A7C0261FB}" type="slidenum">
              <a:t>&lt;#&gt;</a:t>
            </a:fld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5F72C37-4E05-4CCB-805D-211976FC3F11}" type="slidenum">
              <a:t>&lt;#&gt;</a:t>
            </a:fld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46ADB54-5808-416E-BD64-AF194F23E035}" type="slidenum">
              <a:t>&lt;#&gt;</a:t>
            </a:fld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BFD4F06-D1C0-4BFE-B9BC-9DB79C9652B6}" type="slidenum">
              <a:t>&lt;#&gt;</a:t>
            </a:fld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BACB744-5B9A-4FFB-82AC-324EAEC99D2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AE619-1832-4AD0-8CAA-164AA168DA4F}" type="slidenum">
              <a:t>&lt;#&gt;</a:t>
            </a:fld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5670D5D-DDBD-474B-A1D7-D7530C9444C9}" type="slidenum">
              <a:t>&lt;#&gt;</a:t>
            </a:fld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18A41ED-594B-48A2-8DEC-BD5E12329E22}" type="slidenum">
              <a:t>&lt;#&gt;</a:t>
            </a:fld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4F9E84A-CE0D-46E6-A654-E20869F93704}" type="slidenum">
              <a:t>&lt;#&gt;</a:t>
            </a:fld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CDECDB4-16D1-42F6-B024-10226879359C}" type="slidenum">
              <a:t>&lt;#&gt;</a:t>
            </a:fld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AA29BC1-BF3E-4C16-A569-4EE9ABA679E5}" type="slidenum">
              <a:t>&lt;#&gt;</a:t>
            </a:fld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37C22E-C876-460D-A331-5717BE7BF06C}" type="slidenum">
              <a:t>&lt;#&gt;</a:t>
            </a:fld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B8540E-3AFE-4EB3-B8E3-F5A6A9FEEA57}" type="slidenum">
              <a:t>&lt;#&gt;</a:t>
            </a:fld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3D66B5-ABDD-428B-B960-E291BE8C3E36}" type="slidenum">
              <a:t>&lt;#&gt;</a:t>
            </a:fld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589D5B5-E53A-40D1-89EF-F2E3159DD749}" type="slidenum">
              <a:t>&lt;#&gt;</a:t>
            </a:fld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BDF903-F3DB-455A-B6D9-B83EAE6B52B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9A295-BE29-4124-8B67-45FDCAECD55C}" type="slidenum">
              <a:t>&lt;#&gt;</a:t>
            </a:fld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282509-DA9F-41C8-8C89-1BBF4133E2DA}" type="slidenum">
              <a:t>&lt;#&gt;</a:t>
            </a:fld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87FABD-DF4E-4342-A51E-A1B892323F71}" type="slidenum">
              <a:t>&lt;#&gt;</a:t>
            </a:fld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D1AE74-0EAA-4492-96FE-8A5FA7A86BCB}" type="slidenum">
              <a:t>&lt;#&gt;</a:t>
            </a:fld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2F05B32-82AE-4C5A-BA91-A8C42E20D7D0}" type="slidenum">
              <a:t>&lt;#&gt;</a:t>
            </a:fld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649DD32-1D73-4B09-816B-CC79D6444FE5}" type="slidenum">
              <a:t>&lt;#&gt;</a:t>
            </a:fld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8D7DE5F-A77C-4F05-A27E-11A12B9466E9}" type="slidenum">
              <a:t>&lt;#&gt;</a:t>
            </a:fld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7B04E62-5B0B-4F99-9D3E-695F1CFE8C65}" type="slidenum">
              <a:t>&lt;#&gt;</a:t>
            </a:fld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93EBF70-46B4-4AA4-A75D-42643BAD326D}" type="slidenum">
              <a:t>&lt;#&gt;</a:t>
            </a:fld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0F14CFD-9065-422B-BAE3-D9724B9DE432}" type="slidenum">
              <a:t>&lt;#&gt;</a:t>
            </a:fld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ACC6B60-5B61-44AC-9A8C-9C725AC9F8D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5944B-4CF8-45BF-A9F3-E5BAB1C209D4}" type="slidenum">
              <a:t>&lt;#&gt;</a:t>
            </a:fld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6FD410A-7839-4142-8B02-AF768F79247F}" type="slidenum">
              <a:t>&lt;#&gt;</a:t>
            </a:fld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1C4F683-8258-4C7B-BEFE-5CE87A5208A6}" type="slidenum">
              <a:t>&lt;#&gt;</a:t>
            </a:fld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F10C913-FEE9-4381-8009-A73523116414}" type="slidenum">
              <a:t>&lt;#&gt;</a:t>
            </a:fld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D8E2556-0DA7-482B-98BA-B15C62F07FA3}" type="slidenum">
              <a:t>&lt;#&gt;</a:t>
            </a:fld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D71BB67-85EA-42DC-89C6-8E41A00528D2}" type="slidenum">
              <a:t>&lt;#&gt;</a:t>
            </a:fld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FD609DC-91FE-42CD-8048-48F10F16DE0D}" type="slidenum">
              <a:t>&lt;#&gt;</a:t>
            </a:fld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6B4FE43-0B4C-43AD-B7FC-C964F0A14C5F}" type="slidenum">
              <a:t>&lt;#&gt;</a:t>
            </a:fld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0E1AEFD-1008-4CB7-B51A-EC4289419B7D}" type="slidenum">
              <a:t>&lt;#&gt;</a:t>
            </a:fld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B919E24-4BC7-4389-ACB3-5861C2022295}" type="slidenum">
              <a:t>&lt;#&gt;</a:t>
            </a:fld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433BD5D-66F2-4C42-97F7-5119D289214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20424-B1C7-4147-BE30-99783F98199C}" type="slidenum">
              <a:t>&lt;#&gt;</a:t>
            </a:fld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4AF8DF6-DAA6-42E1-9639-510CFF6D0791}" type="slidenum">
              <a:t>&lt;#&gt;</a:t>
            </a:fld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FB646D9-A522-4E79-9651-5031520015B4}" type="slidenum">
              <a:t>&lt;#&gt;</a:t>
            </a:fld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28B2335-9A3B-464A-B658-EDE56088BF55}" type="slidenum">
              <a:t>&lt;#&gt;</a:t>
            </a:fld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92896F0-7751-439D-ABB7-B9841F098DEF}" type="slidenum">
              <a:t>&lt;#&gt;</a:t>
            </a:fld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EF1D1AB-A9A8-4DBF-9826-C288027E685F}" type="slidenum">
              <a:t>&lt;#&gt;</a:t>
            </a:fld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D80F26F-638C-4129-89F2-31ED06A5A5BA}" type="slidenum">
              <a:t>&lt;#&gt;</a:t>
            </a:fld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CFCE37A-DA9A-4FAD-91BC-7D99661B4645}" type="slidenum">
              <a:t>&lt;#&gt;</a:t>
            </a:fld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620992E-089D-442A-83A5-70CE2BC55485}" type="slidenum">
              <a:t>&lt;#&gt;</a:t>
            </a:fld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FEE623E-DAFD-4C70-ACB7-4B53EFA93E7A}" type="slidenum">
              <a:t>&lt;#&gt;</a:t>
            </a:fld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E3E205B-0CBD-4CDA-A659-DDD7B099AB5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A71DE-D3B5-4A2C-B4C1-22F4AE7E179B}" type="slidenum">
              <a:t>&lt;#&gt;</a:t>
            </a:fld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6BDAFA7-0A4A-47EA-B514-AAF893C04DB3}" type="slidenum">
              <a:t>&lt;#&gt;</a:t>
            </a:fld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D410AE-EF54-4162-852C-08FF08BBEA50}" type="slidenum">
              <a:t>&lt;#&gt;</a:t>
            </a:fld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03947E6-0A76-4F43-8AC5-CAD70993E33A}" type="slidenum">
              <a:t>&lt;#&gt;</a:t>
            </a:fld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61A2345-04FF-474D-BA3F-055745EEECAA}" type="slidenum">
              <a:t>&lt;#&gt;</a:t>
            </a:fld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3AB02DA-DABC-4827-82FA-11A9955DD890}" type="slidenum">
              <a:t>&lt;#&gt;</a:t>
            </a:fld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7E2BBD2-168A-4E8F-A770-F9A249A4A3CF}" type="slidenum">
              <a:t>&lt;#&gt;</a:t>
            </a:fld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BEB53EB-FA33-44EA-B71C-DFE8A58ABF95}" type="slidenum">
              <a:t>&lt;#&gt;</a:t>
            </a:fld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810E403-88DE-40DC-A25F-4229B1C8BC01}" type="slidenum">
              <a:t>&lt;#&gt;</a:t>
            </a:fld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ED5C202-C277-4A02-A26B-B42B7E86CD15}" type="slidenum">
              <a:t>&lt;#&gt;</a:t>
            </a:fld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4D87771-9824-4631-AF6C-5E92ADBBA7C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4AB12-D27B-4EA9-AEA6-D871EAA13EAF}" type="slidenum">
              <a:t>&lt;#&gt;</a:t>
            </a:fld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C7093B0-09AC-4B55-95F3-580AA1721CFF}" type="slidenum">
              <a:t>&lt;#&gt;</a:t>
            </a:fld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E19F2FD-09FB-42B3-B29B-899A7A661773}" type="slidenum">
              <a:t>&lt;#&gt;</a:t>
            </a:fld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765CDC-6526-4167-9331-65301F7DF6B5}" type="slidenum">
              <a:t>&lt;#&gt;</a:t>
            </a:fld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4EE5985-FD5A-485A-A063-B07324A8A8BD}" type="slidenum">
              <a:t>&lt;#&gt;</a:t>
            </a:fld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B05C58F-3588-42A7-B134-7146A3ECC6A0}" type="slidenum">
              <a:t>&lt;#&gt;</a:t>
            </a:fld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D606BE6-13E9-47C8-8361-5A1E72B6E797}" type="slidenum">
              <a:t>&lt;#&gt;</a:t>
            </a:fld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2EB2582-CDB1-4BC1-843F-0DDCA85DDFCB}" type="slidenum">
              <a:t>&lt;#&gt;</a:t>
            </a:fld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CBC0B46F-0482-4F57-8F3D-145E6E9BF169}" type="slidenum">
              <a:t>&lt;#&gt;</a:t>
            </a:fld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D5F1422-E54E-4B65-A456-E34443725BE3}" type="slidenum">
              <a:t>&lt;#&gt;</a:t>
            </a:fld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7862EBD-076B-41AB-8C1C-B77B7482AF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B61B-B65E-4A51-87AE-D684C6E20A1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EB8E7-3E1A-4814-92F8-A97F24441E5D}" type="slidenum">
              <a:t>&lt;#&gt;</a:t>
            </a:fld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FC2F000-9339-469F-B93F-2946956C8B31}" type="slidenum">
              <a:t>&lt;#&gt;</a:t>
            </a:fld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873A99E-3731-4488-BFF1-E9D52B40C413}" type="slidenum">
              <a:t>&lt;#&gt;</a:t>
            </a:fld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9B3D203-C2CB-4B18-BA69-B11E8182394C}" type="slidenum">
              <a:t>&lt;#&gt;</a:t>
            </a:fld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3D2B877-4D45-4473-8196-2CEBDEE178A3}" type="slidenum">
              <a:t>&lt;#&gt;</a:t>
            </a:fld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7177E5A-C682-4A5A-89C2-4AF7C58B353E}" type="slidenum">
              <a:t>&lt;#&gt;</a:t>
            </a:fld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65B67C7-01C0-4AEF-81B6-590888C4A4EE}" type="slidenum">
              <a:t>&lt;#&gt;</a:t>
            </a:fld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C2C3827-5E4D-40F1-9BE5-1C65F518D3E2}" type="slidenum">
              <a:t>&lt;#&gt;</a:t>
            </a:fld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421E79E-3AC8-4924-AEB1-2DB59E27EDE2}" type="slidenum">
              <a:t>&lt;#&gt;</a:t>
            </a:fld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A69A0A1-961B-4D89-9968-8FCB017EF772}" type="slidenum">
              <a:t>&lt;#&gt;</a:t>
            </a:fld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473B8C9-B4DA-4EA5-9666-90B4C9938E5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0B52B-65E2-43D0-B956-952434A0205D}" type="slidenum">
              <a:t>&lt;#&gt;</a:t>
            </a:fld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E4DE2FB-035C-4CDC-9362-3B79E37B7D99}" type="slidenum">
              <a:t>&lt;#&gt;</a:t>
            </a:fld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6C40FFD-B95D-496D-A227-6998B81C0AB3}" type="slidenum">
              <a:t>&lt;#&gt;</a:t>
            </a:fld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90A126C-E54D-4246-94B6-4C6A60035819}" type="slidenum">
              <a:t>&lt;#&gt;</a:t>
            </a:fld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B2C0B71-62F9-47C9-952C-C22CAE59AE18}" type="slidenum">
              <a:t>&lt;#&gt;</a:t>
            </a:fld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D79F6A3-8A38-48C3-B4BA-BD0C6AB93729}" type="slidenum">
              <a:t>&lt;#&gt;</a:t>
            </a:fld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C554186-1EE6-4103-A385-BDE59BC96E78}" type="slidenum">
              <a:t>&lt;#&gt;</a:t>
            </a:fld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EBA0DAE-C6AB-47DB-A9C6-4BF00EAFBEE5}" type="slidenum">
              <a:t>&lt;#&gt;</a:t>
            </a:fld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964455-F475-4147-AB85-01497A280B57}" type="slidenum">
              <a:t>&lt;#&gt;</a:t>
            </a:fld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5079C34-859D-46ED-8E00-A2266D7F1C19}" type="slidenum">
              <a:t>&lt;#&gt;</a:t>
            </a:fld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3D1F953-6EDB-4BDE-9411-E0E1592DE54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D325C-E6A1-4447-AD7D-59B3B9811DD4}" type="slidenum">
              <a:t>&lt;#&gt;</a:t>
            </a:fld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AB7D702-EC9E-42F7-A192-7346F8376842}" type="slidenum">
              <a:t>&lt;#&gt;</a:t>
            </a:fld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9D5F7E0-EC4B-4FB6-BAC2-B5BBE86C08DB}" type="slidenum">
              <a:t>&lt;#&gt;</a:t>
            </a:fld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55DDBE1-A77C-4B2D-9E26-AC2DE62B3D6E}" type="slidenum">
              <a:t>&lt;#&gt;</a:t>
            </a:fld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966281B-28B4-4728-AA44-A37F7FC18A45}" type="slidenum">
              <a:t>&lt;#&gt;</a:t>
            </a:fld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F1B6C00-A521-4B10-9606-590A8A4AE369}" type="slidenum">
              <a:t>&lt;#&gt;</a:t>
            </a:fld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E7C1117-052B-4BD9-BCC0-E1523FCE64F8}" type="slidenum">
              <a:t>&lt;#&gt;</a:t>
            </a:fld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E3CC44E-37BC-4F26-A078-37B0F5127E57}" type="slidenum">
              <a:t>&lt;#&gt;</a:t>
            </a:fld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52FCF93-A8BA-44B5-9A8D-4EAB2883C204}" type="slidenum">
              <a:t>&lt;#&gt;</a:t>
            </a:fld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E16566F-D71A-4E61-A06D-C8C0CC30AFB3}" type="slidenum">
              <a:t>&lt;#&gt;</a:t>
            </a:fld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A22052C-A59F-42F4-AAC2-AD1E2BFE04F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409F3-64F2-4F09-9040-B4EB99DE7835}" type="slidenum">
              <a:t>&lt;#&gt;</a:t>
            </a:fld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5B53EDC-AA1E-42AD-9CA3-DD82FBCC8BD9}" type="slidenum">
              <a:t>&lt;#&gt;</a:t>
            </a:fld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1AF6900-F80E-42D4-9243-EE4613090457}" type="slidenum">
              <a:t>&lt;#&gt;</a:t>
            </a:fld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2CE39BA-C334-4410-BC57-113E9D433AD7}" type="slidenum">
              <a:t>&lt;#&gt;</a:t>
            </a:fld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B8E9251-576F-49CC-8EEE-78C08331D15D}" type="slidenum">
              <a:t>&lt;#&gt;</a:t>
            </a:fld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88A877E-88D0-43BB-930B-7324059ADF9B}" type="slidenum">
              <a:t>&lt;#&gt;</a:t>
            </a:fld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F257CADB-69B6-469D-A3B1-75AC060AF3A6}" type="slidenum">
              <a:t>&lt;#&gt;</a:t>
            </a:fld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F9584AF-04E8-4D04-AF07-25BD79EB53B3}" type="slidenum">
              <a:t>&lt;#&gt;</a:t>
            </a:fld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19B05AA-7469-4F22-9F4E-0562FA5D1D6E}" type="slidenum">
              <a:t>&lt;#&gt;</a:t>
            </a:fld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737D5B4-10FB-4D7E-A9B0-E7AE62FE4028}" type="slidenum">
              <a:t>&lt;#&gt;</a:t>
            </a:fld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99E47D7-6D49-4EDF-B505-1817C00F2CE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EDC79-B255-4ACD-9D0C-6ADEB179C8C4}" type="slidenum">
              <a:t>&lt;#&gt;</a:t>
            </a:fld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C4088BB-7464-4A21-9BC3-5C9A6AF6ED63}" type="slidenum">
              <a:t>&lt;#&gt;</a:t>
            </a:fld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3E1A89C-098A-458D-80F7-255C4D58B101}" type="slidenum">
              <a:t>&lt;#&gt;</a:t>
            </a:fld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C2E6652-0BF9-425C-8ED8-ECE616622C98}" type="slidenum">
              <a:t>&lt;#&gt;</a:t>
            </a:fld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E77BF0E-9F6E-4892-AEEB-24568D0553E7}" type="slidenum">
              <a:t>&lt;#&gt;</a:t>
            </a:fld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826DDAE-684F-43C1-BC0F-AF735BA985D8}" type="slidenum">
              <a:t>&lt;#&gt;</a:t>
            </a:fld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2127E4E-5800-4E7D-AAF8-432E1FB14AB3}" type="slidenum">
              <a:t>&lt;#&gt;</a:t>
            </a:fld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980B76F-5E69-45CD-9665-B877A93B7197}" type="slidenum">
              <a:t>&lt;#&gt;</a:t>
            </a:fld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9245C43-31E0-49ED-B6E5-3E2777D5D1A0}" type="slidenum">
              <a:t>&lt;#&gt;</a:t>
            </a:fld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C751681-9798-4054-BC1C-4C708C6BE74A}" type="slidenum">
              <a:t>&lt;#&gt;</a:t>
            </a:fld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3971D59-85DC-4260-833C-ADC8A68A90F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42CB43-BEF7-4F0D-A6CF-7696F8DDC2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4080D6C-9428-42CF-8EA9-51FCF3170A5D}" type="slidenum">
              <a:t>&lt;#&gt;</a:t>
            </a:fld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C671754-2EE3-43E0-AB71-A65C630FC4D6}" type="slidenum">
              <a:t>&lt;#&gt;</a:t>
            </a:fld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FEF95F4-F9B1-413A-A8EA-6574705BB171}" type="slidenum">
              <a:t>&lt;#&gt;</a:t>
            </a:fld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5E8855-5B7B-4F96-A2AD-6C2F42424C61}" type="slidenum">
              <a:t>&lt;#&gt;</a:t>
            </a:fld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93FE159-6F36-45B9-AE3D-2685C9AAE2D8}" type="slidenum">
              <a:t>&lt;#&gt;</a:t>
            </a:fld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4B8E570-8692-4352-9700-8D8409E858FE}" type="slidenum">
              <a:t>&lt;#&gt;</a:t>
            </a:fld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84A27AD-2FD7-4481-9F78-21C9101FB86D}" type="slidenum">
              <a:t>&lt;#&gt;</a:t>
            </a:fld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F929478-52A9-48A8-9332-103AA6B53A8D}" type="slidenum">
              <a:t>&lt;#&gt;</a:t>
            </a:fld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B309D5-183B-42C2-8D0A-EB34C2FFB316}" type="slidenum">
              <a:t>&lt;#&gt;</a:t>
            </a:fld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4BC749-65FD-4C68-84DB-3811DDE9432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6337F-3AC2-4A32-A9A3-ABD85442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594423-92DE-4E13-9085-75829C68AE97}" type="slidenum">
              <a:t>&lt;#&gt;</a:t>
            </a:fld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21C5DD-A033-4508-8937-739B3A0E7D84}" type="slidenum">
              <a:t>&lt;#&gt;</a:t>
            </a:fld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8875ED3-FCE9-405B-B614-DA97DB9897FA}" type="slidenum">
              <a:t>&lt;#&gt;</a:t>
            </a:fld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B19EF31-A7FB-464A-B80F-29A9F555574C}" type="slidenum">
              <a:t>&lt;#&gt;</a:t>
            </a:fld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6479C28-9FE2-47E6-AE9A-D05456F49F56}" type="slidenum">
              <a:t>&lt;#&gt;</a:t>
            </a:fld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9E44BEB-5FC2-45CC-B36D-535717248F83}" type="slidenum">
              <a:t>&lt;#&gt;</a:t>
            </a:fld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49F9C98-77F0-4D37-977E-4B2A34B9CE52}" type="slidenum">
              <a:t>&lt;#&gt;</a:t>
            </a:fld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6A30C45-904F-4EB6-958D-D421C825129A}" type="slidenum">
              <a:t>&lt;#&gt;</a:t>
            </a:fld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1A8B262-872E-4D01-8D13-0EB129A2FCFE}" type="slidenum">
              <a:t>&lt;#&gt;</a:t>
            </a:fld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FCE1E3B-14A2-4F73-A0B4-8AC9A4EF183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E4E68-BAE0-4FFC-AE26-F60ECD54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F0ADE14-FF47-4E2E-8181-1CAFF82674E5}" type="slidenum">
              <a:t>&lt;#&gt;</a:t>
            </a:fld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3040F23-B2E3-4884-88E5-5394FC48621D}" type="slidenum">
              <a:t>&lt;#&gt;</a:t>
            </a:fld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8981D3C-A938-4101-9584-DAB71270948A}" type="slidenum">
              <a:t>&lt;#&gt;</a:t>
            </a:fld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65F5DEF-7B66-4A99-85A0-EF4C437E9767}" type="slidenum">
              <a:t>&lt;#&gt;</a:t>
            </a:fld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4660EE9-8BA1-4C2D-A4DB-AD9C064F3CD0}" type="slidenum">
              <a:t>&lt;#&gt;</a:t>
            </a:fld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674018F-E1C7-4E08-86DD-81E6A94C1840}" type="slidenum">
              <a:t>&lt;#&gt;</a:t>
            </a:fld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E0BD0E8-5C94-41BE-8E31-0E623AD14372}" type="slidenum">
              <a:t>&lt;#&gt;</a:t>
            </a:fld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748FF17-0269-40A7-A43E-29EC9FAAACA0}" type="slidenum">
              <a:t>&lt;#&gt;</a:t>
            </a:fld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41CB28B-61F9-408C-922E-C6FB240E3F34}" type="slidenum">
              <a:t>&lt;#&gt;</a:t>
            </a:fld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D409166-AE5D-4B19-AE12-00D6DC47065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E19DA-0E8D-4EF1-A8B9-5B749B8B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B27F6FF-35D7-4B72-A1E8-7D341B586AE2}" type="slidenum">
              <a:t>&lt;#&gt;</a:t>
            </a:fld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14B85DB-C9B7-4E45-904C-EA29544F0228}" type="slidenum">
              <a:t>&lt;#&gt;</a:t>
            </a:fld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1F27F87-C73A-4F82-B657-061F0CAEA27C}" type="slidenum">
              <a:t>&lt;#&gt;</a:t>
            </a:fld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B07E0A1-B5F0-4C65-AD0D-82F85A88C16A}" type="slidenum">
              <a:t>&lt;#&gt;</a:t>
            </a:fld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BBF5354-511E-4926-A0C8-33EEF72D7837}" type="slidenum">
              <a:t>&lt;#&gt;</a:t>
            </a:fld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36301B6-F29D-48EF-8CF7-2EBB4ACB4A72}" type="slidenum">
              <a:t>&lt;#&gt;</a:t>
            </a:fld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015D86C-0532-4CCD-8272-A4B3DD386E2A}" type="slidenum">
              <a:t>&lt;#&gt;</a:t>
            </a:fld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32312C1-EDEA-41AB-BA73-52F786F38D64}" type="slidenum">
              <a:t>&lt;#&gt;</a:t>
            </a:fld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F509639-4E78-4E43-9586-7EA9E7777328}" type="slidenum">
              <a:t>&lt;#&gt;</a:t>
            </a:fld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38BE3AC-D61D-4700-8326-4709433ED52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79807-356C-4E8E-B566-5577E7A9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923C02-96D3-4F21-B10A-0853027076F9}" type="slidenum">
              <a:t>&lt;#&gt;</a:t>
            </a:fld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313F40-F314-4ACA-A5B2-9EFAEBAEBAD4}" type="slidenum">
              <a:t>&lt;#&gt;</a:t>
            </a:fld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85A69F9-BADE-4210-9FCD-D18F42331B15}" type="slidenum">
              <a:t>&lt;#&gt;</a:t>
            </a:fld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6A9948-3556-416E-802A-3E38B2A5C9A4}" type="slidenum">
              <a:t>&lt;#&gt;</a:t>
            </a:fld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69FA53E-5A0C-4DCF-A781-04A1FB545678}" type="slidenum">
              <a:t>&lt;#&gt;</a:t>
            </a:fld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D7531FA-4D41-4D8D-B736-220D7485CC8F}" type="slidenum">
              <a:t>&lt;#&gt;</a:t>
            </a:fld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23902E-DE1E-4768-9163-3DDCF65C25C1}" type="slidenum">
              <a:t>&lt;#&gt;</a:t>
            </a:fld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445E560-0226-40DF-84DF-77B3334DD813}" type="slidenum">
              <a:t>&lt;#&gt;</a:t>
            </a:fld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1B1CEF4-6F84-4D90-B14C-360090010E3A}" type="slidenum">
              <a:t>&lt;#&gt;</a:t>
            </a:fld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6BD5867-15BB-4519-BB56-17B5D3196B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9597-4233-4D6F-A061-59033C47B9C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0C990B-5671-4DA5-90EE-B358BCB9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B399DFD-2EFA-445A-A80F-96616F0A4114}" type="slidenum">
              <a:t>&lt;#&gt;</a:t>
            </a:fld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535D841-A4D2-4EE8-8CF1-E23CA447D187}" type="slidenum">
              <a:t>&lt;#&gt;</a:t>
            </a:fld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571FE7D-9227-490D-B1DD-895108A5B077}" type="slidenum">
              <a:t>&lt;#&gt;</a:t>
            </a:fld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3BD683C-9A3C-49CB-9FE2-06A8D6A992B1}" type="slidenum">
              <a:t>&lt;#&gt;</a:t>
            </a:fld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BB85A35-D4A2-4EAA-95C5-9494FD74A891}" type="slidenum">
              <a:t>&lt;#&gt;</a:t>
            </a:fld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4A70800-E826-4097-8D20-5BC7EAC32D37}" type="slidenum">
              <a:t>&lt;#&gt;</a:t>
            </a:fld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BAD89A0-A7A2-4659-8625-CC43F4F30A85}" type="slidenum">
              <a:t>&lt;#&gt;</a:t>
            </a:fld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F34AF9E-6A6C-4920-A34A-37EC0D373B51}" type="slidenum">
              <a:t>&lt;#&gt;</a:t>
            </a:fld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F6DEBF8-E09A-491F-9872-2E1DA45F01AC}" type="slidenum">
              <a:t>&lt;#&gt;</a:t>
            </a:fld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D4B3844-FD70-4F19-B88F-A001163BE28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972D2-4B78-4734-8253-D7A52688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80D78C0-CF09-449F-B821-EA978BFCB7ED}" type="slidenum">
              <a:t>&lt;#&gt;</a:t>
            </a:fld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874047A-48F5-4394-8785-CEA366231502}" type="slidenum">
              <a:t>&lt;#&gt;</a:t>
            </a:fld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32120C7-7F92-4CF1-90F2-57CB542432A2}" type="slidenum">
              <a:t>&lt;#&gt;</a:t>
            </a:fld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D77B4B3-93B0-4FE3-8F95-EF7F96BD8233}" type="slidenum">
              <a:t>&lt;#&gt;</a:t>
            </a:fld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32EC700-DB1C-4476-8BD7-79C8F1D82DB7}" type="slidenum">
              <a:t>&lt;#&gt;</a:t>
            </a:fld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29C0FBB-206B-4BBA-BE78-36CC42B576C1}" type="slidenum">
              <a:t>&lt;#&gt;</a:t>
            </a:fld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452D6B0-2BBE-4453-AEF4-88272C6F672D}" type="slidenum">
              <a:t>&lt;#&gt;</a:t>
            </a:fld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A0A1644-F19A-4171-B625-00001FB71C31}" type="slidenum">
              <a:t>&lt;#&gt;</a:t>
            </a:fld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AD915F1-12A4-44D3-8160-3CD9C3CC4848}" type="slidenum">
              <a:t>&lt;#&gt;</a:t>
            </a:fld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6571A6A-8DFE-47C9-B6F3-8E928E7B1BF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E9DE2-AD25-4277-9B89-C8E1D716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46C5863-1896-4CE1-B746-265CD2536892}" type="slidenum">
              <a:t>&lt;#&gt;</a:t>
            </a:fld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3D42030-9E01-4C80-89B2-30E6CB6CD25D}" type="slidenum">
              <a:t>&lt;#&gt;</a:t>
            </a:fld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88D8653-AB15-433F-8075-403E0CA97F99}" type="slidenum">
              <a:t>&lt;#&gt;</a:t>
            </a:fld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9DCEAE2-B77D-453D-9B98-1E0E02081E53}" type="slidenum">
              <a:t>&lt;#&gt;</a:t>
            </a:fld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B98E7E2-F5CE-4A45-A1AF-BE9678E32759}" type="slidenum">
              <a:t>&lt;#&gt;</a:t>
            </a:fld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C363958-8E07-4B7C-908C-6E93775BD6A7}" type="slidenum">
              <a:t>&lt;#&gt;</a:t>
            </a:fld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0FE2D04-72AB-490D-A373-686FF28ED1EB}" type="slidenum">
              <a:t>&lt;#&gt;</a:t>
            </a:fld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149158-F225-4164-A78F-DB2585C7D913}" type="slidenum">
              <a:t>&lt;#&gt;</a:t>
            </a:fld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447886C-8A0C-404E-AF78-F2330055D941}" type="slidenum">
              <a:t>&lt;#&gt;</a:t>
            </a:fld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D0F3598-FC32-4643-83DD-34FB7CC8571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70A9E-8157-4B1D-BECC-3B1F9D08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E8DB56E-8691-46EC-B388-DA127FC696E7}" type="slidenum">
              <a:t>&lt;#&gt;</a:t>
            </a:fld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FC11AC6-6932-424F-A296-9C8104880999}" type="slidenum">
              <a:t>&lt;#&gt;</a:t>
            </a:fld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8109047-A149-46A1-901D-640A92DCDF1A}" type="slidenum">
              <a:t>&lt;#&gt;</a:t>
            </a:fld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B461E30-3D58-484E-9267-7C35D3B95887}" type="slidenum">
              <a:t>&lt;#&gt;</a:t>
            </a:fld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F0452A5-23A8-45F0-8013-A03D03FBDFF4}" type="slidenum">
              <a:t>&lt;#&gt;</a:t>
            </a:fld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EE66F35-D897-462D-9174-3439DCD0AAE0}" type="slidenum">
              <a:t>&lt;#&gt;</a:t>
            </a:fld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2D1789B-2B70-4C93-9A45-D7891CBA9516}" type="slidenum">
              <a:t>&lt;#&gt;</a:t>
            </a:fld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33B65DF-A757-4D44-B542-34D4BCA574DF}" type="slidenum">
              <a:t>&lt;#&gt;</a:t>
            </a:fld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39C7210-D2B3-4A18-9A0E-F5FAEB2803D9}" type="slidenum">
              <a:t>&lt;#&gt;</a:t>
            </a:fld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EDB1B9F-9737-409C-A297-20858178B86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3DA1D-0759-4A30-8D73-ACE83C59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B226C66-EBEF-4EED-AE07-A5FC289990E1}" type="slidenum">
              <a:t>&lt;#&gt;</a:t>
            </a:fld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F427CF4-DB35-4EB1-A64E-79AFA7013E43}" type="slidenum">
              <a:t>&lt;#&gt;</a:t>
            </a:fld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E4C4931-2EF1-4C72-BDBD-C53412C5FD17}" type="slidenum">
              <a:t>&lt;#&gt;</a:t>
            </a:fld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C207F87-436D-49E1-8F21-A1D330AFF6E4}" type="slidenum">
              <a:t>&lt;#&gt;</a:t>
            </a:fld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95B2A99-BA26-4509-8C33-1B48762A9BC7}" type="slidenum">
              <a:t>&lt;#&gt;</a:t>
            </a:fld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61C6B54-C5CD-422B-A5B8-3838571C7B9D}" type="slidenum">
              <a:t>&lt;#&gt;</a:t>
            </a:fld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D2A48A8-D4BB-45F1-B99C-39CE575BF5BD}" type="slidenum">
              <a:t>&lt;#&gt;</a:t>
            </a:fld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F138071-D61A-4FA6-9751-99BFD0DFA801}" type="slidenum">
              <a:t>&lt;#&gt;</a:t>
            </a:fld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EF48427-AF51-4BFB-8E4E-59A4D9D67A9D}" type="slidenum">
              <a:t>&lt;#&gt;</a:t>
            </a:fld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E341625-2782-4005-A48D-DC31C1EEE69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67F23-1DB5-402F-BC39-A84191F8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93B0B7B-CF9F-4A6D-9D55-A5B27C37ACE5}" type="slidenum">
              <a:t>&lt;#&gt;</a:t>
            </a:fld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94ABCD9-7154-440B-8450-6E010263E0B7}" type="slidenum">
              <a:t>&lt;#&gt;</a:t>
            </a:fld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E94E401-7416-4272-89F3-F8CEB67725C2}" type="slidenum">
              <a:t>&lt;#&gt;</a:t>
            </a:fld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5A31FAD-9E44-407E-A31B-340BFEAF3D06}" type="slidenum">
              <a:t>&lt;#&gt;</a:t>
            </a:fld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9D480D3-2878-433C-A2B5-11166083D77B}" type="slidenum">
              <a:t>&lt;#&gt;</a:t>
            </a:fld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0487536-F6BB-4CBB-A715-501E2D2DD6AA}" type="slidenum">
              <a:t>&lt;#&gt;</a:t>
            </a:fld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52F4846-45DB-4028-A89A-6A660F9F3A81}" type="slidenum">
              <a:t>&lt;#&gt;</a:t>
            </a:fld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D8110E1-63A0-4E02-A40B-549FE0081B14}" type="slidenum">
              <a:t>&lt;#&gt;</a:t>
            </a:fld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508087A-6E9D-4841-82A1-500ED277DA70}" type="slidenum">
              <a:t>&lt;#&gt;</a:t>
            </a:fld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CD98630-CB12-47A7-9B93-DF9BED8A3AD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EC926-7AE7-4330-BD21-9D9B69F2E8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7E4F53E-F925-4FBB-9725-B5D113B2B39B}" type="slidenum">
              <a:t>&lt;#&gt;</a:t>
            </a:fld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346604F-FE71-4B04-820E-F2CDA35DA0CA}" type="slidenum">
              <a:t>&lt;#&gt;</a:t>
            </a:fld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B3112B3-F2A0-4DFE-9463-536D945C9AF0}" type="slidenum">
              <a:t>&lt;#&gt;</a:t>
            </a:fld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5D4D8E8-26B3-4C2F-939C-573AF8089ECE}" type="slidenum">
              <a:t>&lt;#&gt;</a:t>
            </a:fld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166220C-E9D8-4B17-9E27-A15ABB58F14C}" type="slidenum">
              <a:t>&lt;#&gt;</a:t>
            </a:fld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9E80848-243E-4E97-9920-901600EC3347}" type="slidenum">
              <a:t>&lt;#&gt;</a:t>
            </a:fld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F285AE-D2A0-4E1E-A416-4A3DE4D3321B}" type="slidenum">
              <a:t>&lt;#&gt;</a:t>
            </a:fld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1623E3E-017A-4668-9815-267FB625CF3E}" type="slidenum">
              <a:t>&lt;#&gt;</a:t>
            </a:fld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51DBE3-078C-41E0-BB5A-9FF2F8C86885}" type="slidenum">
              <a:t>&lt;#&gt;</a:t>
            </a:fld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715C348-A54E-4A6F-AF71-17D8C0D98A2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FD7AD-EBF7-4011-812C-EF43E9366E0F}" type="slidenum">
              <a:t>&lt;#&gt;</a:t>
            </a:fld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149BC2-B633-4B67-82F4-CB855D4C3192}" type="slidenum">
              <a:t>&lt;#&gt;</a:t>
            </a:fld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A04914A-C5F1-4401-AFD6-024DC5F17A54}" type="slidenum">
              <a:t>&lt;#&gt;</a:t>
            </a:fld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05081DD-5831-4B38-B6F1-39F0A2AE198F}" type="slidenum">
              <a:t>&lt;#&gt;</a:t>
            </a:fld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2744F02-C682-4894-B819-5974057E8783}" type="slidenum">
              <a:t>&lt;#&gt;</a:t>
            </a:fld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D2119D0-4C70-482F-9575-85F4FD41EAED}" type="slidenum">
              <a:t>&lt;#&gt;</a:t>
            </a:fld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E9DBCDA-E44F-4A3A-BC1C-CBDB7E053D88}" type="slidenum">
              <a:t>&lt;#&gt;</a:t>
            </a:fld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F878072-DBA9-4A63-8683-E6CD73A62461}" type="slidenum">
              <a:t>&lt;#&gt;</a:t>
            </a:fld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0311043-8C1A-4C5B-A79D-BFAABF48B657}" type="slidenum">
              <a:t>&lt;#&gt;</a:t>
            </a:fld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B526868-AF5A-4E8A-B97A-85D940431985}" type="slidenum">
              <a:t>&lt;#&gt;</a:t>
            </a:fld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21B4CFF-75D8-4AF7-86DE-02CDFD0DB57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DD8D1-6795-4F81-AE55-F355E35528AA}" type="slidenum">
              <a:t>&lt;#&gt;</a:t>
            </a:fld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57D2238-1A19-4E7B-8BE8-E7A499F36732}" type="slidenum">
              <a:t>&lt;#&gt;</a:t>
            </a:fld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00A301E-0845-4BE7-BA49-3F2CA3487CD5}" type="slidenum">
              <a:t>&lt;#&gt;</a:t>
            </a:fld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3EEC911-AC32-46D2-A0B1-D6F0CB93CAAF}" type="slidenum">
              <a:t>&lt;#&gt;</a:t>
            </a:fld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87FEAEB-CFF6-4D1B-81B2-7DBB013C79FB}" type="slidenum">
              <a:t>&lt;#&gt;</a:t>
            </a:fld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E75E7D4-6B2E-4A05-8692-A955BF5A34A4}" type="slidenum">
              <a:t>&lt;#&gt;</a:t>
            </a:fld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956E42A-5473-4B75-B72D-68F6737E08D8}" type="slidenum">
              <a:t>&lt;#&gt;</a:t>
            </a:fld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FA62312-AFEA-4F4D-ACFD-0AA9B2F27228}" type="slidenum">
              <a:t>&lt;#&gt;</a:t>
            </a:fld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2A7C9AE-196B-4E40-9E99-C0B0240CED32}" type="slidenum">
              <a:t>&lt;#&gt;</a:t>
            </a:fld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196A291-C63D-49A6-B99B-EC62E11D3F2E}" type="slidenum">
              <a:t>&lt;#&gt;</a:t>
            </a:fld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0DEEF92-FDC4-4CF6-A4A5-00E691252D1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AB068-5066-4E24-85EA-25192C7DC1F5}" type="slidenum">
              <a:t>&lt;#&gt;</a:t>
            </a:fld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128CECB-6E31-42A2-B0ED-7845DCDE69FD}" type="slidenum">
              <a:t>&lt;#&gt;</a:t>
            </a:fld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07617B0-E50D-4D82-A85A-7011E9DC1A53}" type="slidenum">
              <a:t>&lt;#&gt;</a:t>
            </a:fld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9A79063-4EDF-49B0-9870-1768520BA7B7}" type="slidenum">
              <a:t>&lt;#&gt;</a:t>
            </a:fld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5D0342A-12DF-4C69-8746-146F07B87BB7}" type="slidenum">
              <a:t>&lt;#&gt;</a:t>
            </a:fld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1BCE64A-64CD-49D2-98E2-B152181ADC5D}" type="slidenum">
              <a:t>&lt;#&gt;</a:t>
            </a:fld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F819350-4F19-4AF8-A1DB-97C1A39F5278}" type="slidenum">
              <a:t>&lt;#&gt;</a:t>
            </a:fld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0EE5FA1-B47F-4814-BC66-038471CB7F7B}" type="slidenum">
              <a:t>&lt;#&gt;</a:t>
            </a:fld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5BFEB72-99C8-452D-B0A1-618FF50C950A}" type="slidenum">
              <a:t>&lt;#&gt;</a:t>
            </a:fld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399CF22-C8B1-4071-BCBF-1D520DBFE0C4}" type="slidenum">
              <a:t>&lt;#&gt;</a:t>
            </a:fld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BD6564-02F6-4293-A1D0-C816518DC5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5056-9017-46EF-8B31-D0AF33A52FA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99C31-E7A6-460F-BF90-C21F427F0BA0}" type="slidenum">
              <a:t>&lt;#&gt;</a:t>
            </a:fld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6BFEBCC-BA91-4301-A0A1-277566440100}" type="slidenum">
              <a:t>&lt;#&gt;</a:t>
            </a:fld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6DECCFA-BF35-4040-BCC1-74A59ECD4F4C}" type="slidenum">
              <a:t>&lt;#&gt;</a:t>
            </a:fld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175D119-066A-4752-937A-5C8D91812BCD}" type="slidenum">
              <a:t>&lt;#&gt;</a:t>
            </a:fld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1555766-E3C7-4723-923D-C7F18173E6EE}" type="slidenum">
              <a:t>&lt;#&gt;</a:t>
            </a:fld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0700A30-B952-46E7-9779-0CEF40872BC0}" type="slidenum">
              <a:t>&lt;#&gt;</a:t>
            </a:fld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03EC677-29EF-4005-B6B1-1073BFCEC2E2}" type="slidenum">
              <a:t>&lt;#&gt;</a:t>
            </a:fld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C5FDF8D-50B0-4D25-9433-2F667BE5F9A4}" type="slidenum">
              <a:t>&lt;#&gt;</a:t>
            </a:fld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39F5D27-2699-47E7-B04A-F9D3CBCDD937}" type="slidenum">
              <a:t>&lt;#&gt;</a:t>
            </a:fld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8D6C735-EC51-420D-A57A-05988E1B5487}" type="slidenum">
              <a:t>&lt;#&gt;</a:t>
            </a:fld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C97DC34-5B43-4D94-AFBD-1B09AA77AEB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747E6-3B1C-4B4D-91A4-8F74D10957F7}" type="slidenum">
              <a:t>&lt;#&gt;</a:t>
            </a:fld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598950B-712A-4A42-B5AA-D3C81EBB4814}" type="slidenum">
              <a:t>&lt;#&gt;</a:t>
            </a:fld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1EB7382-36DC-46B6-AA00-EEA109898D40}" type="slidenum">
              <a:t>&lt;#&gt;</a:t>
            </a:fld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F8578D7-2FE7-4F03-B64B-8E395AEB6CB3}" type="slidenum">
              <a:t>&lt;#&gt;</a:t>
            </a:fld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E70D3E1-D260-4F8F-9356-A2F80AED94E6}" type="slidenum">
              <a:t>&lt;#&gt;</a:t>
            </a:fld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29621E2-0AB3-4ACB-AC82-AC9309F6FEC6}" type="slidenum">
              <a:t>&lt;#&gt;</a:t>
            </a:fld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5FE2C41-65B6-479B-814C-AD02C834CCD5}" type="slidenum">
              <a:t>&lt;#&gt;</a:t>
            </a:fld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DAF8CAD-7804-4C96-B12E-849C96B33C9C}" type="slidenum">
              <a:t>&lt;#&gt;</a:t>
            </a:fld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2B75107-C003-4A7E-8AC1-EFCB15153881}" type="slidenum">
              <a:t>&lt;#&gt;</a:t>
            </a:fld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76B85F7-E57A-4EA8-833B-5FE9B327D017}" type="slidenum">
              <a:t>&lt;#&gt;</a:t>
            </a:fld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0553E1B-025B-4555-A6EC-A00B8C6659A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8D01A-5862-4BEA-BF8A-CA6F5C8ED45C}" type="slidenum">
              <a:t>&lt;#&gt;</a:t>
            </a:fld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66E22DD-2497-42BE-B0A7-C5EC304E81F6}" type="slidenum">
              <a:t>&lt;#&gt;</a:t>
            </a:fld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CE1D8C0-300D-4AF0-80C8-9AEDD5CA6B49}" type="slidenum">
              <a:t>&lt;#&gt;</a:t>
            </a:fld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FD08FCF-1190-4C50-8B2B-1F074CDF9789}" type="slidenum">
              <a:t>&lt;#&gt;</a:t>
            </a:fld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83F068B-3779-47DC-9575-C495D9EFE465}" type="slidenum">
              <a:t>&lt;#&gt;</a:t>
            </a:fld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1CEC4EC-C76C-4E5F-BB9A-206AE13BF626}" type="slidenum">
              <a:t>&lt;#&gt;</a:t>
            </a:fld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3EAADCE-FE72-4810-8EF7-06AB5E115EB6}" type="slidenum">
              <a:t>&lt;#&gt;</a:t>
            </a:fld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D071F30-5C25-4194-B58D-AF8A2215300E}" type="slidenum">
              <a:t>&lt;#&gt;</a:t>
            </a:fld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FE975E9-1928-4F27-8926-B98A84AC62F9}" type="slidenum">
              <a:t>&lt;#&gt;</a:t>
            </a:fld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E1A18F5-290C-47D0-B591-F43558C7D699}" type="slidenum">
              <a:t>&lt;#&gt;</a:t>
            </a:fld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563CBEA-F9CC-4245-8F66-FCE2FFBFCDF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216E6-837F-438F-BBCF-D1B9A010D5C0}" type="slidenum">
              <a:t>&lt;#&gt;</a:t>
            </a:fld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77D6569-4607-4444-BA17-4D22DB78FE1E}" type="slidenum">
              <a:t>&lt;#&gt;</a:t>
            </a:fld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7DFDEF8-D7D1-4FC6-AAB9-679D7E027729}" type="slidenum">
              <a:t>&lt;#&gt;</a:t>
            </a:fld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6CEC4ED-1528-4CAC-ACB1-DC5C7A8141B5}" type="slidenum">
              <a:t>&lt;#&gt;</a:t>
            </a:fld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2A31B64-1271-4777-8544-38A3F203A7A3}" type="slidenum">
              <a:t>&lt;#&gt;</a:t>
            </a:fld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875C17A-5795-4479-94BE-86A9E1A2A29E}" type="slidenum">
              <a:t>&lt;#&gt;</a:t>
            </a:fld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DCE70C1-97C8-495A-AB86-937955DB54F4}" type="slidenum">
              <a:t>&lt;#&gt;</a:t>
            </a:fld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9A210D2-E831-4E66-BC1E-F000D9D0CD31}" type="slidenum">
              <a:t>&lt;#&gt;</a:t>
            </a:fld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99A243-994E-4204-8ED9-8140CC855739}" type="slidenum">
              <a:t>&lt;#&gt;</a:t>
            </a:fld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2523D2F-B701-4877-BFC0-B90C4F6AFC51}" type="slidenum">
              <a:t>&lt;#&gt;</a:t>
            </a:fld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214121F-A787-4E12-92D5-C0D11444E19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3D880-9ED7-4D97-8340-35967447452F}" type="slidenum">
              <a:t>&lt;#&gt;</a:t>
            </a:fld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B078836-BF19-406C-956A-F716B248796E}" type="slidenum">
              <a:t>&lt;#&gt;</a:t>
            </a:fld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89DC4BA-ECA0-4E85-8AAC-D2727C3A9F46}" type="slidenum">
              <a:t>&lt;#&gt;</a:t>
            </a:fld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6B07C46-A2AE-460B-94EF-EB5870DCED23}" type="slidenum">
              <a:t>&lt;#&gt;</a:t>
            </a:fld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E75C9F-90AC-4234-A9D7-4695902649F5}" type="slidenum">
              <a:t>&lt;#&gt;</a:t>
            </a:fld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4CE7780-2969-4401-9CAD-B5687A47645B}" type="slidenum">
              <a:t>&lt;#&gt;</a:t>
            </a:fld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21566E8-CA0D-4D12-AEEC-41ACD790B0C9}" type="slidenum">
              <a:t>&lt;#&gt;</a:t>
            </a:fld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62C3239-FC34-4182-A1D2-BD3190483FCA}" type="slidenum">
              <a:t>&lt;#&gt;</a:t>
            </a:fld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5FF1AEB-DFE7-402D-942B-A16F052E3E31}" type="slidenum">
              <a:t>&lt;#&gt;</a:t>
            </a:fld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9C39DB9-449D-4DB5-9D1D-B8DECE4BED61}" type="slidenum">
              <a:t>&lt;#&gt;</a:t>
            </a:fld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B9FAF03-AAA3-4001-A9AB-02C5F8277E9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A1C19-EED0-4632-96DB-7F91D07C0F62}" type="slidenum">
              <a:t>&lt;#&gt;</a:t>
            </a:fld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61FA20B-A3D8-47F3-B215-319D2080A20D}" type="slidenum">
              <a:t>&lt;#&gt;</a:t>
            </a:fld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AA9B7D8-814B-4140-9A6E-9B8B4800637E}" type="slidenum">
              <a:t>&lt;#&gt;</a:t>
            </a:fld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58BD666-BF54-41F9-AFB0-CCC7121824ED}" type="slidenum">
              <a:t>&lt;#&gt;</a:t>
            </a:fld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C3697B7-1E2A-4930-AC9B-61CF2CCBBE9D}" type="slidenum">
              <a:t>&lt;#&gt;</a:t>
            </a:fld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A15CF84-A6B9-45F5-B0E4-18F7D842C449}" type="slidenum">
              <a:t>&lt;#&gt;</a:t>
            </a:fld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477EEA7-FFF7-4FA9-B228-DE1DDB0FBC2A}" type="slidenum">
              <a:t>&lt;#&gt;</a:t>
            </a:fld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6A70817-C0F5-426B-9E95-4BF17FD43A6C}" type="slidenum">
              <a:t>&lt;#&gt;</a:t>
            </a:fld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71800EF-7415-4888-9054-93A233CF2301}" type="slidenum">
              <a:t>&lt;#&gt;</a:t>
            </a:fld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010BB16-3932-4816-98B2-05A7A755B9AC}" type="slidenum">
              <a:t>&lt;#&gt;</a:t>
            </a:fld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CBBF3C6-DF3F-480E-91D4-2B44AE6EC40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36696-8CE0-4038-9C7E-163932A93575}" type="slidenum">
              <a:t>&lt;#&gt;</a:t>
            </a:fld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21A4E5A-98AD-4185-8DE6-1FDFCDD2C6D3}" type="slidenum">
              <a:t>&lt;#&gt;</a:t>
            </a:fld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DD14780-1130-4127-B041-EACA402D1039}" type="slidenum">
              <a:t>&lt;#&gt;</a:t>
            </a:fld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3A12999-EA18-4573-937C-66619E6A8A2B}" type="slidenum">
              <a:t>&lt;#&gt;</a:t>
            </a:fld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E72AAAA-126A-4DA1-B576-BA3474A71F36}" type="slidenum">
              <a:t>&lt;#&gt;</a:t>
            </a:fld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4493702-716E-49D6-A475-605CF8E04039}" type="slidenum">
              <a:t>&lt;#&gt;</a:t>
            </a:fld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93C5F48-5A53-414B-B12A-3F3FFC71E1E7}" type="slidenum">
              <a:t>&lt;#&gt;</a:t>
            </a:fld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FAB7A2F-1561-49E0-B652-28817FE6F9B1}" type="slidenum">
              <a:t>&lt;#&gt;</a:t>
            </a:fld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85E302F-AF6A-43C1-82CC-541B01D0E90F}" type="slidenum">
              <a:t>&lt;#&gt;</a:t>
            </a:fld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4BA4CD0-8891-4CC6-852B-E0CF7793CD8D}" type="slidenum">
              <a:t>&lt;#&gt;</a:t>
            </a:fld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ADCC38B-DBE0-4762-83BE-46A99755218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AFBB7-C5D6-4C2D-9926-EC62700DCF4C}" type="slidenum">
              <a:t>&lt;#&gt;</a:t>
            </a:fld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5BC16B3-0307-44C5-9D1E-BB232AEA95B1}" type="slidenum">
              <a:t>&lt;#&gt;</a:t>
            </a:fld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453C3AF-033F-4FD7-8393-68C58BD4DDF3}" type="slidenum">
              <a:t>&lt;#&gt;</a:t>
            </a:fld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90AC18E-D433-44B6-AC84-CB3C793AEAAE}" type="slidenum">
              <a:t>&lt;#&gt;</a:t>
            </a:fld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CAFA702-A83B-483D-899B-8B21A497C465}" type="slidenum">
              <a:t>&lt;#&gt;</a:t>
            </a:fld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DDADD1B-C79F-4872-BEFE-422759B9402E}" type="slidenum">
              <a:t>&lt;#&gt;</a:t>
            </a:fld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282CEB8-F4B6-41A7-9106-244561ABC275}" type="slidenum">
              <a:t>&lt;#&gt;</a:t>
            </a:fld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8386B6A-BEED-4E65-9640-49659B532A56}" type="slidenum">
              <a:t>&lt;#&gt;</a:t>
            </a:fld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441E2E1-553F-475B-BF09-7FC7D4759D0A}" type="slidenum">
              <a:t>&lt;#&gt;</a:t>
            </a:fld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FF533D3-147E-4F67-B90A-B0B180A3EBC8}" type="slidenum">
              <a:t>&lt;#&gt;</a:t>
            </a:fld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CC069FD-3781-486E-841D-D6C7C384C87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E06EC-38F4-4FD8-8789-B8E5B24B8F67}" type="slidenum">
              <a:t>&lt;#&gt;</a:t>
            </a:fld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ED72F78-1AB0-44E5-8CAB-CF8F30ADCA72}" type="slidenum">
              <a:t>&lt;#&gt;</a:t>
            </a:fld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E2F824F-CB29-4C49-B112-DE35935CF76D}" type="slidenum">
              <a:t>&lt;#&gt;</a:t>
            </a:fld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432F9A9-990A-4A76-882F-A3FBE0F44BDB}" type="slidenum">
              <a:t>&lt;#&gt;</a:t>
            </a:fld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943DE97-FF50-4BF2-A51A-0EACB2F3F29C}" type="slidenum">
              <a:t>&lt;#&gt;</a:t>
            </a:fld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0EA18BC-DC84-460A-A6CB-C0D3400F550D}" type="slidenum">
              <a:t>&lt;#&gt;</a:t>
            </a:fld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63EAAE8-D2F8-4744-82DD-626CC3C0A472}" type="slidenum">
              <a:t>&lt;#&gt;</a:t>
            </a:fld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39736FF-3B36-490D-B94F-67DC44CDF867}" type="slidenum">
              <a:t>&lt;#&gt;</a:t>
            </a:fld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5801F32-87EB-4C0E-8DA3-74A6B56550A5}" type="slidenum">
              <a:t>&lt;#&gt;</a:t>
            </a:fld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056A090-6D03-40E4-A64F-F807E24AB0AB}" type="slidenum">
              <a:t>&lt;#&gt;</a:t>
            </a:fld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3D1691C-FE30-4B0B-9DD5-64B213A1703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2D862C-BBAB-4782-82E5-49DD05C5426B}" type="slidenum">
              <a:t>&lt;#&gt;</a:t>
            </a:fld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12A8289-2090-420C-B6C0-DF5550E6A235}" type="slidenum">
              <a:t>&lt;#&gt;</a:t>
            </a:fld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6E75A0E-261C-4D74-A800-9F5F2CFC2CDD}" type="slidenum">
              <a:t>&lt;#&gt;</a:t>
            </a:fld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92166CB-3E36-4DA4-A98A-4D295308B2D6}" type="slidenum">
              <a:t>&lt;#&gt;</a:t>
            </a:fld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BEE6FBA-87FA-41B4-81CD-9DA60AACC599}" type="slidenum">
              <a:t>&lt;#&gt;</a:t>
            </a:fld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A7DF479-1D4C-453C-8FBF-FDBCE7E254D3}" type="slidenum">
              <a:t>&lt;#&gt;</a:t>
            </a:fld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BAE09AE-6700-48EF-B96A-12153F23876D}" type="slidenum">
              <a:t>&lt;#&gt;</a:t>
            </a:fld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DE28A7C-0628-404D-A9AE-31CEEC82EB53}" type="slidenum">
              <a:t>&lt;#&gt;</a:t>
            </a:fld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9E97FF9F-90E1-4123-B1EE-E12E08F08040}" type="slidenum">
              <a:t>&lt;#&gt;</a:t>
            </a:fld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DD74C56-1C8E-4096-A578-BC495DDC1E20}" type="slidenum">
              <a:t>&lt;#&gt;</a:t>
            </a:fld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18094D1-117A-420D-98BD-19320CC7CD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7342-F95D-4246-A420-703F31BBD5B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0843F-F048-46B4-A4C8-F34F0FBD5C06}" type="slidenum">
              <a:t>&lt;#&gt;</a:t>
            </a:fld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91037D9-035E-40AF-86C6-D103F8100D2F}" type="slidenum">
              <a:t>&lt;#&gt;</a:t>
            </a:fld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1DA5E90-CD31-42C9-9676-C440F31540EB}" type="slidenum">
              <a:t>&lt;#&gt;</a:t>
            </a:fld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1CF19997-08DB-43D7-9561-34C36143AA13}" type="slidenum">
              <a:t>&lt;#&gt;</a:t>
            </a:fld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A448B9E-C540-45B9-9F96-887D3A15AA1B}" type="slidenum">
              <a:t>&lt;#&gt;</a:t>
            </a:fld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8998C76-9EF9-47AA-B1F9-C111D0BD6A65}" type="slidenum">
              <a:t>&lt;#&gt;</a:t>
            </a:fld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D73B1FA-8A37-4686-BE07-88CFC29F9CFD}" type="slidenum">
              <a:t>&lt;#&gt;</a:t>
            </a:fld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08A96D4-F342-40B5-BCF5-4F1333D81B43}" type="slidenum">
              <a:t>&lt;#&gt;</a:t>
            </a:fld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43A8831-0E9B-47D7-9803-FA5520754FE9}" type="slidenum">
              <a:t>&lt;#&gt;</a:t>
            </a:fld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5C3B7C-C11F-4499-B785-A22AA05E8989}" type="slidenum">
              <a:t>&lt;#&gt;</a:t>
            </a:fld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D3CFE8B-22F5-42DC-A844-561A847FD76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95F1A8-AD85-47B3-AB45-75EDE85B0E84}" type="slidenum">
              <a:t>&lt;#&gt;</a:t>
            </a:fld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3B1E05E-64AA-4BF8-B8A4-686CF4D871D5}" type="slidenum">
              <a:t>&lt;#&gt;</a:t>
            </a:fld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38FCC95-43ED-4CDA-B04B-1D43329DF2AF}" type="slidenum">
              <a:t>&lt;#&gt;</a:t>
            </a:fld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5B1B13B-0C13-412F-8D01-5FC5806067EF}" type="slidenum">
              <a:t>&lt;#&gt;</a:t>
            </a:fld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3C8D198-0EE3-4E8F-8AA2-1A8015355AC0}" type="slidenum">
              <a:t>&lt;#&gt;</a:t>
            </a:fld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1A35381-51ED-43EC-83D0-D57C498CDEA7}" type="slidenum">
              <a:t>&lt;#&gt;</a:t>
            </a:fld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B522C51-ACF2-418F-9B4B-69BD11DB48CC}" type="slidenum">
              <a:t>&lt;#&gt;</a:t>
            </a:fld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C6D6D56-4976-472C-86BB-618F02074FAD}" type="slidenum">
              <a:t>&lt;#&gt;</a:t>
            </a:fld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65678EF-310C-48F7-88A2-E077BB8629E3}" type="slidenum">
              <a:t>&lt;#&gt;</a:t>
            </a:fld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63EB07C-197F-4E25-92FE-C6F987E9350D}" type="slidenum">
              <a:t>&lt;#&gt;</a:t>
            </a:fld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219D375-BC52-4A3C-BBDD-75428C87075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2ED8D7-3A45-441A-AC2B-A0DE7709DCA0}" type="slidenum">
              <a:t>&lt;#&gt;</a:t>
            </a:fld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37232F0-FB0C-4C0C-81A8-3C5B881BC5DC}" type="slidenum">
              <a:t>&lt;#&gt;</a:t>
            </a:fld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E3C9C9F-5DD0-4E0E-B06A-BFB5CBEF3CE8}" type="slidenum">
              <a:t>&lt;#&gt;</a:t>
            </a:fld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A2449FC-9B83-432E-BEED-75CD186FD0C6}" type="slidenum">
              <a:t>&lt;#&gt;</a:t>
            </a:fld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F240F37-3035-4B58-AD41-D71766E7ECE9}" type="slidenum">
              <a:t>&lt;#&gt;</a:t>
            </a:fld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712B677-F944-48E9-84BA-2B845B5933F8}" type="slidenum">
              <a:t>&lt;#&gt;</a:t>
            </a:fld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CA18010-943A-4DCA-A21A-A0CDA8557647}" type="slidenum">
              <a:t>&lt;#&gt;</a:t>
            </a:fld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B877779-B5C4-4161-8B88-4A80C55B753D}" type="slidenum">
              <a:t>&lt;#&gt;</a:t>
            </a:fld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BBDFFDF-5F4D-4FA0-9137-7EA54D163835}" type="slidenum">
              <a:t>&lt;#&gt;</a:t>
            </a:fld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AE8EE17-C6EB-4DD5-8A6C-EC93C339D857}" type="slidenum">
              <a:t>&lt;#&gt;</a:t>
            </a:fld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058755E-DAAE-4AC6-9C35-4DC38880DE1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A6EBDF-E7E1-472D-8D2C-81FCDBDBD55B}" type="slidenum">
              <a:t>&lt;#&gt;</a:t>
            </a:fld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3E6F38A-0BEA-4F90-9720-BF078A063029}" type="slidenum">
              <a:t>&lt;#&gt;</a:t>
            </a:fld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DA2B245-B4F3-4D9C-A7E4-EC9D2180DAC3}" type="slidenum">
              <a:t>&lt;#&gt;</a:t>
            </a:fld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67204A5-553B-43A8-8381-C6CA93D8954E}" type="slidenum">
              <a:t>&lt;#&gt;</a:t>
            </a:fld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54352AD0-5726-48CE-8953-9E26D88A7EB6}" type="slidenum">
              <a:t>&lt;#&gt;</a:t>
            </a:fld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BFABDA0-1CEF-4B22-8EB3-3F1A6A3BBBF0}" type="slidenum">
              <a:t>&lt;#&gt;</a:t>
            </a:fld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CB1D72E-8ED1-4E34-9C48-7BEBE342FB14}" type="slidenum">
              <a:t>&lt;#&gt;</a:t>
            </a:fld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1296F71-2AFB-45B3-8011-6C58BDBF4CC3}" type="slidenum">
              <a:t>&lt;#&gt;</a:t>
            </a:fld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27C20C9-D644-44E6-8940-6724CA60711C}" type="slidenum">
              <a:t>&lt;#&gt;</a:t>
            </a:fld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05A34ED-7C55-4EC1-B30B-E6AAE1398761}" type="slidenum">
              <a:t>&lt;#&gt;</a:t>
            </a:fld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65691D89-20EA-4647-9AE2-CBE0FD91D8B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8D3568-0547-4DC5-9864-EE3DE43D122B}" type="slidenum">
              <a:t>&lt;#&gt;</a:t>
            </a:fld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605908C-43C8-4B6F-B329-25D53741069D}" type="slidenum">
              <a:t>&lt;#&gt;</a:t>
            </a:fld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7A395FD-8005-4E0D-8AA7-9AABC6EBBA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0950350-5236-44FE-8281-40D6B1E3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7F7DECE-3FD1-4F1D-ACA7-BFD7A2DE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8333489-2CC9-472F-BEAD-B7E68D57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1F3A7F6-EECF-4798-BFCA-A823A788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83D9839-6E23-48EC-BDF1-E9CB1856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70A1D49-DB88-4BE0-9DA9-5C367D2E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FA74196-7556-41C6-8B4B-9B37C868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A15F6F5-FD37-4F78-B147-84C2F3A7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37D8D4-4D84-4D34-A9E6-23307265AE1D}" type="slidenum">
              <a:t>&lt;#&gt;</a:t>
            </a:fld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E9D8254-7844-4A6D-9268-C3B762E0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D599979-5A67-4944-A6C9-685D95AA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397566D-8BB0-40D8-B4BF-8596BB47A7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30C1044-1F88-4E35-B8EF-B4FD65D35F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D0D9714-CBD7-4CB2-8EFA-3FA6D204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FF9838A-B2B2-4681-8AF9-E3891805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FA016E2-AEAB-4952-959F-C4301DCC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6031916-B723-485B-B8D4-81EE3835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FDD052D-E8E0-4FB7-A3CB-04F18A7A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D3315E3-922B-418B-95A3-2CE4779B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AEAFE4-24DE-4359-99C7-95D46E2397FE}" type="slidenum">
              <a:t>&lt;#&gt;</a:t>
            </a:fld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5723802-9878-421E-8BD6-0667F469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678F830-A632-4EBA-9137-39DF6005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166B1F3-0FAC-4132-985C-C65807FC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6E76D22-FDC1-4300-9045-C014A157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A6B107F-7E68-4791-B458-E43110AED4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48F01DD-B422-47FA-BB47-91608058F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59A10CC-1BAB-4733-B5C3-B319B877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FAC067E-EFA2-407A-9FCB-B201FD5B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87A24B4-697D-4CDF-821A-B39B25C7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FC36F62-1F3A-4E14-9E64-D2D55C90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4DA0C3-D2E8-4E39-9340-0A0434F6CBE6}" type="slidenum">
              <a:t>&lt;#&gt;</a:t>
            </a:fld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9A24B14-1E63-4AD2-B347-1E90BA57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27F1121-9E65-4C8F-A92A-30993EA6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CEBBBE1-DB18-45DD-A92D-EB18066C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88A2FD5-30EA-4BCF-86AD-0EF85ED3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F9F3992-3C00-4646-AFF5-B900AFCD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14326CB-4278-488B-9E90-936386F3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4042273-6F1F-4F4B-90F9-781127D05C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2C15465-70BA-4957-AE94-A86E1077B7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209BAFF-713A-456A-A779-667D5FB0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B1FD11C-6EFC-445D-AB2F-C9F2AE59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A48159-0261-406F-84F5-143096D64364}" type="slidenum">
              <a:t>&lt;#&gt;</a:t>
            </a:fld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09AD244-8A43-4E7A-8546-BE4FFFEC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0A383F5-E84D-4BEF-8EE2-E231D57B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EE1BD07-B761-40EB-9BD6-6FEC4E99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44DFB44-A2C9-42AD-B205-D6150E13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7BB1222-9C09-41B9-9606-6165E92E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CC61F35-4516-4AA6-B9D2-C514E447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BC43634-142C-48FA-94EF-609B057A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8C95236-42BD-4954-A80A-60049400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6F9B212-58AE-4E41-9FBE-54329A4622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31C804B-3026-4BEC-A66A-0734F91F78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7B8C0E-C056-4607-A7EE-A604606ECCF5}" type="slidenum">
              <a:t>&lt;#&gt;</a:t>
            </a:fld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83C1DE5-5FEF-47FA-80B3-6CF4CF37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6EBDAED-A61D-4EDB-988A-FA171D44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4D2814D-9DE2-498A-899E-ADF8F6AB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798D59B-300A-4518-B129-42A360CD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4FDD2D3-8FB5-4622-B301-88310E1D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6497AE3-16A9-4262-A581-239FDA17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19F3AD0-A116-4417-A165-5C8C553B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DE0C1DA-759D-4727-B326-A074732B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FE6CB72-8657-42EF-9D38-F8709760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4C10F46-5950-4764-B299-97275873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5EA1B-4C8E-4CC8-A254-D1A6A7BD05F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82FCD3-B6E8-4928-8DBD-C197FC551E6B}" type="slidenum">
              <a:t>&lt;#&gt;</a:t>
            </a:fld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1FAE5A3-EABB-4325-ABDB-4C8F900453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B6922C6E-2460-4AEB-977F-0B22B4A5D1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6D3E947-4A94-47D1-B840-3FEC0335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035BF4F-34EF-4A4B-97CB-AB46ACC5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267F8725-3001-491D-9A2E-6FAFBE22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A712B44C-B06F-4112-9E4E-C717E9E0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D8BFC7A6-597C-48D2-B1EF-5D0484F7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D1E2F84-9794-417C-BB05-36E236CE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7CBEED9-F007-4D0A-853A-8B1CC55D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4DE9C15C-3B4D-4E91-835A-58C000ED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F7DB2-7B70-4EDF-86C5-F1061A146F4D}" type="slidenum">
              <a:t>&lt;#&gt;</a:t>
            </a:fld>
          </a:p>
        </p:txBody>
      </p:sp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D842ADF5-C11A-49B4-A500-96138E95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5007632-F2E4-4EB5-BD5C-0564AC91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C7DBB15E-2837-441E-B6E5-2057DFA480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F323E29-8AF7-45E1-9A09-833EFBB62E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26CC584-ABD4-4071-8D6B-FBB6E79A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3F37284-0B1E-42C6-B56E-C5C7A933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AEFE8EA-0641-40FB-9E52-37E41EC9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DEFBB9F-D5B9-4C73-B1E0-C1F06E95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DD6A06F-5951-4443-9653-B5EE560A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345A766-CD11-4C4D-AAF9-BEC66F68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5658D-062D-427D-82E0-D06AA77CC949}" type="slidenum">
              <a:t>&lt;#&gt;</a:t>
            </a:fld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A6D70AD-DF1A-4EFE-B099-A0357D20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9BD49D3-D092-4C8D-8796-930D3680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3A112B0-4A68-4F93-BDBC-B8F2300F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DD1410B-5E85-4E3A-90D6-7647FBA9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92DF1D4-F949-4507-8433-E7A728228C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F09E991-7498-40FE-B265-E9C613E67E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35AA635-19B1-4C42-A3E1-3FBB62BC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64C6746-AC2F-4A91-A28E-1242F4AB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8119151-9136-435B-93C8-2DB3ADC1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C1D5B2C-FC53-4EDF-8947-36F7EA80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1D686D-3CE7-467F-94FD-EF6F80162302}" type="slidenum">
              <a:t>&lt;#&gt;</a:t>
            </a:fld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F46CC89-1B3D-4D9F-AE30-17B1635F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0057D91-AD26-490A-8DC0-0AE30FBE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8607A9E-63BD-418C-9840-BE0B8B37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38515A5-F856-4503-9F0F-6BEEBEBE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082404E-40F3-43A5-90A2-50816938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F3667BB-B7D9-4084-B679-BCA3F983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0CCB0AD-5436-464C-96FD-02B7C41E8F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E7B73783-7EC2-4998-B715-1C650C2D69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556F768C-D570-4BDF-BDEA-60507C7A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7D64DEFF-71BB-4591-AB97-86944539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40EFC9-43E9-4BF9-9092-B9A0DE7B7313}" type="slidenum">
              <a:t>&lt;#&gt;</a:t>
            </a:fld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FBE8919C-0703-424C-9E3E-5B00C3D7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AF94CEF1-7A26-4635-9EB0-827908A9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DBF438C9-7ADD-406D-A7B8-95F10E7E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1A546DF2-1213-4972-9E19-96903EAE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281389C2-F7B7-4FF3-A3CA-A981C87E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0E4AA6E1-02EC-4979-BA8D-2040719F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1BD945A-423D-4B60-9528-27CBFD6A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5E5D4E42-1BF7-4072-BB8A-07269E7B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83A1E265-9D27-4501-A2AE-2BF902EBF8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8BB6731-602B-4696-A4C7-AF13C5A0E9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E5E4A-9E9B-472A-B390-F739A3EB8791}" type="slidenum">
              <a:t>&lt;#&gt;</a:t>
            </a:fld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D8C118E-4117-4B8D-9B31-3F33218D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B4FCD19-82D8-4963-9812-E543E2DD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57CE9C2-CEB2-4A9F-8FC8-521FB30A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D1F7035-D046-4B7E-AB1C-7891E0C6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7AE162F-C399-4AFE-8D95-B9398D3C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CB079B3-7B34-448C-A601-853831CA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260507E-884A-4EB6-B8F1-307A9E59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EDAF921-EA5C-435B-964C-A7DBBC8F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9FF6319-1508-4851-A3CB-EC3CA294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E8F6A6A-94C3-4372-9737-94A5319B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2A0DF-1CBF-44CF-B458-8140ACEDE383}" type="slidenum">
              <a:t>&lt;#&gt;</a:t>
            </a:fld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94CB9A7-529A-4418-B7C5-FBCDB066AC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E62CBCB-88EA-45B3-A47A-C1DF9F4FE2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366AF4E-5626-4FE8-9243-3189D22A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393E609-3B5E-4811-9FE4-0ADC8EDA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8CFF849-12D7-45D2-A0F9-4E65CA21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036E8E5-0295-410B-8946-678C7925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89E4982-6D5D-41EC-9857-59AC66F5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EA2CE30-CE5D-4A23-A4F2-EC98BD1D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0F1344B-EAA4-45DE-AE54-8BB5D40E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30FE590-B3FF-4392-AD16-7BB23D53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1760D-5EA4-4499-BE7B-DC63E34D85A2}" type="slidenum">
              <a:t>&lt;#&gt;</a:t>
            </a:fld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B700611-E2EA-496C-A107-E9C16E9F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E9E9B89-47DC-499D-BEEF-8382B69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C030B0F-4C59-4641-8617-85354647EC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8BAD6-C962-4F6E-BBB9-17C626A0344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F4969B-A25F-4BE7-BECF-E6431F2925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2D07F-CB2B-4B3C-825B-751DA9057A9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73ADB-598E-40F9-88A3-1947FAA8A2A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8BDAA7-662B-44FF-81FB-A0F42737394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7142D-14A1-4C08-B6BE-D4689D3A854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9B062-20DC-47B4-A4E7-6A411E66A4E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75B55-9C12-4662-AAA5-1BD6F21D7D2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60211-446A-44FF-94E0-8432A880358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94477-FF61-49E6-A3A8-28DA419192C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CC9C8-AF5A-41D2-9BBF-309E811322B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2FA18-7DDF-4AAB-92FD-8E457DF7DF2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16FDB-AEB0-4B85-B304-74169C1AB2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23E4-323D-41ED-8160-D44BF2E5A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EB42B-470B-41C9-B74F-2EBD98B3E28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87BF9-826F-428C-A057-7ECB7A2AD76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CD9BB-69C4-4489-8267-B8662D26B2E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9599D-F00A-4478-B251-2AEA9EC202D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E4155-6343-450A-8ED3-F1CDF23C365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2432E-2612-41B1-A8B4-F17570F3D25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F7777F-1840-4AEB-934C-971ADFB67C0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F029F9-5572-456B-81AE-F8B3B21241C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92AE67-C835-4243-ADA4-A59B7B1CEB1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C3E718-929F-4FEC-B2AB-F5CFF6794EE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926252-5451-4586-8C22-D3BDD20402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A490F-DD2E-458A-90D3-C908C081314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B10EE0-895C-49F7-BE79-551A0BF7EDF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3A9FB0-3E1A-4935-98CC-B1CDD2D7042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38C2D9-9B92-412D-9022-1B76C03D18E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B2CE3B-3ABF-45CC-9EE3-755B48C04D2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8C6FD7-B8FB-47F0-B265-5389BE16536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02E150-C071-44E5-899B-3775356A7F6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33B5B5-AE0A-4307-B109-9C3ACEEF408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010850-C1FD-4914-8F1B-AD171F649FA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3CABF-8F23-4AE6-A8E4-050AB0D1E5E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03FBB-A476-40C3-A6FC-3291B6FDBF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4CD6C-7646-4960-94E0-D8E54443351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E13822-6D9F-414B-BD38-C8D1690AB0C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24C8B6-0DDC-4699-8B23-758AD7BCF3A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611715-D7EF-43BB-B34A-D26C37F301A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B9DFA3-F6F0-48BB-9778-82F16EBF932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D00D7D-9D47-4DAC-9D47-36C420C501E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1D799D-AC21-4B67-AFD3-6166EB4E023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9D7299-3F59-4DAB-B66F-BF807A75239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F7C37-0205-498D-B1D5-53E6B73F281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5462F4-6FD2-4C94-BAF0-2320D06FA71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2C97A-0CAF-40E3-8612-DD59C57303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C7D3-185E-4CB9-8CBC-D07032967F5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A6D13-DFE6-4C23-AA60-A227793CAB2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E0599-63C4-4658-89B3-E3470B10EF7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4AF8B-297C-4B66-AFDF-EBB06C9EE4E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15626-C484-435B-B1CB-E05BE5903AE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2CD3D-89E2-4368-8AF7-E80517D2253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7F7BA-E428-4688-ABC7-88A259CDC49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245F5-56B2-43AE-A91B-198B1B401D2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81DEE-0C9E-4DAD-928E-4DA68D7E1FA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8C6E2-BC45-4E5C-8A99-7BF7C9C2C3F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B6BA7-F28D-4D00-8EBD-633B532814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5B53-1E0F-447C-8F47-1AF1B2B8373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05A75-50C3-44A6-A726-42B8BEF9760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A9CFF9-EBD3-4A03-9E9A-CAA01FE9948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5EAB52-776F-40AF-ADEF-05D9D08BD65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C03223-984F-4713-BD77-5458AC82FAB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2F5B7C-101E-4303-8856-55EBB9D9829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7C09CF-2A78-4508-845C-ADC6C6A0C01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F8B109-539C-4423-9EDF-F1638104C37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FC516E-A3C2-4CD6-91D6-804AA902E18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5E6792-FECF-4568-B353-DA7E88A95C5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AB3C13-4D33-4533-8442-B62DAC2FCD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E62-8CA7-4DED-831A-C1FD77A7D49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6BCBD4-D76E-4AEF-8E39-A16F39AD145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64A48F-964A-4B50-9AB9-1F551E6A673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403963-BA07-4AC0-9AA9-A1C3315A343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1AF161-7E92-4FEB-85BF-FAFBE17A0A4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94C8B8-4096-4820-A505-B9504D8FDC8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E73F20-5A33-4647-9890-05C8A3C868A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F1E5E1-CA98-463A-9C43-3BD9314CD23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F6E30D-71EA-4310-BD07-9852E294828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87A8DF-866A-4287-9CF1-F2C28F1A42C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A3F8ED-ED73-48F8-879D-9EC58F5199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B69-4E0B-45CE-B90A-7C7039ED69A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8DA9CC-A444-43D3-8323-3AE1DD22C00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DB0708-D9BD-46CB-9A78-01DA82E3108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9D31A5-45A1-4103-BB23-544E69CAB4E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B3ED9C-ABC7-48BA-9FF9-21B4FB90A58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1C0F49-F02E-4369-9B7D-40D3657313B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B2036-9586-4CB7-88D1-487397BEB43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BB8C1-1223-4BA1-9C88-5A5C60F849D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128F1-1D91-41A6-9637-091C6892EA3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C7158-9AE2-4F60-BF8D-A8F52769C4D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8177F-9E8F-4F08-925B-D00EEF99E3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C69-B406-4EC8-9E63-DCD64EFD08E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D9988-2ED5-4412-B60E-B92208788C8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48F51-CE42-4261-ACD0-0DD651A1C6E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CDB0F-7B80-42AB-BC20-8F0098EBC04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3F1E7-F2B5-480D-848A-5D00CC84A58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E2915-A40B-4B00-B544-C581847C3BD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9B7E0-4DF3-472B-B02A-6DE89513038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B71C2-0F27-4FB8-B9DD-01A9798BE77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1659C-1844-4AB7-A4DB-044C6D5596A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A47FA-0C6A-46AB-B6A5-4DA99FCEBDF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69F2C-86E3-4581-9F59-8F7D360690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0B1-332A-4646-8286-D9910E7D68C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C1DB16-76E8-4F5F-9F21-E3367F43FD4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F1B30-59C6-4304-984B-D41732907DF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9A7EA-F79D-4AA9-B677-3FC2FB8B5EF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E8EF5-D23F-4958-8733-64A45F89AA1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DC076-9FFD-4FE1-8431-5C44468E263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89CDF-54A3-411B-B3E9-F7BA0AA32D9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DA5C5-CACE-4BEF-A7E2-5749776221A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FD7B1-0EC8-4FE4-BC44-5C40AA60F6A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E0C44-4D99-459B-A489-51A326C5186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392465-764F-4C6C-B64B-DB0A0AE760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225-09AD-408D-A077-8331E329C46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EA0D7F-DDDC-4FBB-89B7-F6F33F7941F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7AF350-03C9-422B-8B7A-F5EB816A0C7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E57967-E854-472E-8411-B60F577A4B9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0AFBDF-B88B-41F9-B80C-1CABC37520B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0BE177-C3B4-408C-809B-71B1048FE9A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4A42B8-8242-4538-AEE9-20669D1B4DC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D56FE9-37B0-448A-8EAB-ABB199CCC26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A5E268-C4BF-45F8-BF3B-1027C3C4679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643390-31FC-4686-A30D-65112B43D88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0D5BBD-33B0-4BC4-8186-72F8828EE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380A-0181-4411-B3E4-6F5DE4E691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D86-8733-4A82-AE6D-CD36469D461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ABA47C-D2BE-4B7D-8241-843A738EDF1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BA8DD-720A-4635-9D40-F6EDEB786D3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DB5C7-8B1A-43A9-A6BC-99695467027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8A0AA-E72D-4043-827B-DDBB3DFE762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F0EE0-D4E3-4BAB-A16A-67BC961A756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629BA-20AC-44A0-BC64-DEE0F1497C8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D6E2E-5ABE-4D26-8A86-0143D3B1BE1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F2C9F-EC2A-4743-AD9B-6C2509773A3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C6B04-6342-48F9-989E-5285FB0F0B5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62454-456E-46AA-82B2-7D68FA73C8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788-1FD7-476A-8C49-86DA0363990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3062D-82CF-439B-AFE4-23FD29050CA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00DFA-3365-4663-873D-A54CD672C2D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665E0-FAEB-4A64-AFD9-3CB1996B070A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5B8F1-E969-4BAF-B43D-B7B6DF4120C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1280F-5C4D-423C-91B5-AB2385FB9D49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09DAD0-5338-4547-8EC0-440ABC21F5B9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00085-4030-4496-A847-A1254FB76CE9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BF6E31-6935-40F0-9D75-29C1C3042AE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4C677-A03C-48B6-9506-EA62230E0AC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2559F-9CC3-494D-8E85-3B17C45FE2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EBE-CEBB-4F6B-B939-85B2D8FC6218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A0AB0-C3BD-4A3C-882A-811601539F6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4B9E7-5672-40F3-8F30-1E7C996ACB10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61C00A-1CF5-48B4-B513-3BC3F326254E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55719-3245-4165-98A7-ABA8EF2287B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77EE6-99F3-4264-9AF4-83AF3C2D257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1AA24B-C3B1-4CEC-B4A1-B24157ED69A1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88AF91-8510-4BF5-BE78-82CBC2B5167F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453652-9414-4AEC-9E4A-961767D675EF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5E0E4D-2B29-4AC7-B480-21E0D1B37A47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FF3FED-8BC9-4288-A7A3-44BBB9CBF1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44A-CE5A-4231-B9FD-EAEA8C8DA9C3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CC363E-B36F-4738-83F2-A791D4BC10B8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CD9D13-63F3-4E5C-AB6B-DA993AAAF21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B04549-2C23-44FF-8F3D-6F3E4FAF2E2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76658F-C623-4556-861D-6F8BAE7EC9CF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948F70-86C9-4910-B3CC-9A9FFD600A5E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AA77EE-2C93-49BF-8AB4-A7C86EA8F5DD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703F54-2C1C-4B62-9769-EABDC49DBE14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821D4-1098-457D-BBAA-03FCCCBC4EDC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7F2D9-C1A2-4CA8-A50A-3E1228E215D3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E0786-01EB-4BF4-96E6-ED70366C2A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580-0ED0-4264-BB3B-F86388875B54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07163-4AAA-4CE7-9350-7E42D81C3169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8CE16-2234-41F0-AC6E-10612C838E28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53F35-DAC2-4D53-8E26-164E5076420E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0DCFF-1FEF-4884-AFB8-2D0A77450AAB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BA07B-8A1C-450B-AE8F-C4597F9D30EF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50765-2901-42BC-8F90-CCB38D903F69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7CEA1-562E-4136-9DB0-23CF93A8F8D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7B822-2D47-4DDA-8341-2D1C1E94BBE9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A3CDB-6C93-46C6-AEA0-17876C629A7B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DD8431-3F8E-4B9C-A4DD-0CD4F00F89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E60-5F98-453F-8D2E-AAE27B2D1B78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3813A0-A0EE-4D01-A114-98C33B14D714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3357DE-498D-4455-8FF6-118B181CE984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C66B49-5635-4754-B374-EB1DC180E2B6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A20F00-B75B-4106-954D-CE79C43CF5E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3028E2-64F9-4DE4-A9D3-9EA4089D37B2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553A15-E96F-44AA-8E75-DDA1A9055B2A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2A6320-CDC5-450D-B837-B926F3260F05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D75A67-CAE1-4C2B-9E3C-C36C5A0DCA14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C3C24D-FAE5-4936-A8E8-A5093B366517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F4AEA9-8AF8-42C1-903E-DEB9893376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81A-FE4C-4084-A08A-DD43E583C0BC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A93E77-1007-4B14-9A37-8A98DCA0AA4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4A5F30-1904-4C42-A2E3-7265261FC49F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C3A833-F10A-41A3-9E0E-66C0AB57466C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FE0601-09B3-40C0-9FB0-390C64EF9179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6CF2A8-F27B-4523-A798-05445990C801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8E09F3-B6CB-47FD-8AAE-908A5EEFCA93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F5DA4D-613A-466D-8E77-6312BD281E55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ACA422-03E8-4037-BC66-D20A32D90C36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4DBE5B-4C63-46AB-857F-7C9C9A3EAA0A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B8AA57-E603-4EFF-8D8E-54EFFD954D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27592-29C8-4C82-9E98-32269922C214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DED427-B61E-4962-845F-9F9DA1B4E300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5F06CF-39D1-4A22-8F26-A039E168C117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E002FE-01EC-486C-B8AF-EDE1AE3F87A0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0D4AC-F9AB-443B-8133-B85E962EB844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97132-8A58-4C3F-B26C-071209A21D98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FAE2C-F845-4BA1-A61D-DB085F2F122E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BC0B6-2E3A-4F70-92D8-CFA456BDBB4E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FCC9E-C138-4879-A2F9-0F792D528978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6F87B-C677-49B5-B5C3-54A00B9003DF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7898D-5E26-401A-ADC4-C79B8D31AA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52C0B-C02C-4CC1-82D0-E7F624813B60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9393D-86AB-495E-980E-B8DAF6E5D2FE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8B12E-059D-4ACE-8DBC-D6FDB2088305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B8250-2F2C-4683-B786-0C31E61246D7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C5C44-C871-431B-A2B3-38307E238BFE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68B72-25A1-4F6D-8EDC-433356629680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D9E08-B470-4E1C-B3D7-3981A046A650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3A418F-E605-4BFB-8722-F20D34781C76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81F26-3D0B-4251-B28E-85DD166AE13A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CFEC3-46CE-4816-8493-81149695707A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A7A01-3D2C-44C4-B74B-FA4E600846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336CB-5D1D-41C1-8EDD-1CF25554A84C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F9294-89BE-4732-AF6A-53690EAD234E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565E1-91D2-467C-B04A-7446DC1FD830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532CA-1DB7-4424-8069-21A3404F1E52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9C2E5-D879-41B6-B418-0947C4DD56A0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CC280-EE4E-43A0-B9F4-0A895C6FB7F9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C3CAD-301D-4459-9ABB-C665E5B29F41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9E7E5-CA2F-4870-BD37-AC1716A145D7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DD5EC1-3813-4625-8EEB-EB82CB7AEF63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A196C0-4B37-4217-BB33-0DAB16A8D5EF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79D555-DB67-4020-B779-41256723E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37BA-EC44-4BCD-A28E-0A4FD33A38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DE584-32A0-4DD1-A86B-D29FFF798340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65DA3D-F056-4BF2-840C-C9A5B0C8CA85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61F743-63F9-4421-9669-BFA6A9244F10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3F288E-C6D6-4FAF-88E8-D1FA7F7907F0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7DF6EC-972E-42A8-8EB1-C8F2ADBCB847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CC0842-99A8-44BE-A186-560A581BD2F3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C45009-999A-496F-BE8D-315114404278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C3D2C6-4230-4F16-9DD7-A1EF2BC41DCF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F7A035-24A3-498A-BC25-4B2A6EC08C54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17E699-9325-4CD2-8D07-2E46018D32F2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79F9E-8E1E-4A78-B819-7E9813A357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4147A-1823-442C-A48D-40B85C84134D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199FB-2476-4075-A4A2-B194C51BB9CB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4D4BE-7E7D-405C-8E45-B4E7487AF408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DFF55-D2E7-47BE-A93B-9ECF21F2BE28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2DD08-B83A-4041-A2EF-742BF4DAE8F8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BF0CB-8DD4-4776-ABBD-3CA572404AC1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B899E-A819-4029-9F71-873513FC47EC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477C4-E938-4CDA-A43D-7526542D0833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666E6-7F9A-4B8B-A7B7-041309C149A2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C5E19-C706-4D18-AC79-E291D0B4D02D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1E354-1917-4F9F-8ADB-900DEB30D7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68109-47AE-420D-90D0-F2328ACAE754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6A2BE-423A-489C-8BE6-C1FA086432EA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52E098-FD26-49A2-9F25-73F2439AB6D9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822EB6-CE3E-4472-A1B7-75258DE51B4B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C68E24-8FD5-48EA-951F-4A20373B73C7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7D927D-F65F-4B2B-B538-DCAD8675C06E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44A0EE-F8D7-483F-BACE-123D8EF5718B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3052C5-5B25-4AE1-A8AB-928231516992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91D0AC-1ACF-47E6-9A1F-F360BED21159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E179B3-EB62-4E37-A70E-8A526E50F525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533770-EC75-4A31-862B-032CFC52FB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46BF2-9D1F-4DA5-A929-42486EA01E4B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DFF162-D023-4816-A8AE-B671BCB684F7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502AF1-EF44-4F6B-BEF7-033586EF808B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9FB5ED-7758-495A-9E96-FA504C900D98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4042E0-24DF-4147-B736-AE4B6BCDC653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E8CB4D-E47B-4B26-B04A-3E268715E05E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F86503-4391-453F-9D7E-F8CA08AB9F72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A2E04A-3B87-4CA7-93BF-7E4481039336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C0F6F0-156C-4E0C-966C-3B4F6933229E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F56860-9420-47E7-B44A-9EF2FEB1DE91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F01B08-FAC8-42E0-9BCD-3B8DBE6EE9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2F63E-A9A5-448A-A002-34FDFE9E4A2C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3C6337-6DE4-4985-8F83-43836F7269A3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2AB84C-7E14-47F0-89E2-047BCDAB028C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DD0C31-CE24-4BEA-950A-59774FF14160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FF195F-BC6E-44BB-9AC1-E7ACCC1944B7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6F9038-79BC-4704-9C7D-0FD921E64A4C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5BCA7-1BD8-42C6-A62A-86EF6BF03FFF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13A92-CC3A-4394-99AA-D4178611E7A7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50ACD-FDB8-4984-A3C5-56DED96B48B0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7C231-ACCE-49C5-981F-EF911B0E01E7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D6F61-A511-4D72-90D8-E271F2764A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6228D-4DDC-481C-83D7-76C588725602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8D54A-D5A2-4EE1-B4F2-DC7AF6A3B80F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29E79-4508-4DB7-AD09-4E3298E58D87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15573-2E53-4619-99A7-0B6A5EBC6681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5EF71-A65B-4BC8-9A43-BF6270F55686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2914D-39CE-4D77-AA7D-C0930758F905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3B010-E9BB-4F38-8959-315B26BB412A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FB0FE-F056-454C-AC27-9FD3187F1A25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691C28-F908-4305-94D4-7EEBA2E5EB4A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52CE244-9034-4D89-90A4-5CAEC5D6D839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1E76AA4-FE10-4921-95EF-1DFAA200F9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C7767-593F-4E40-A7E2-CA9A6538156A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E520B7-7922-4B1D-A9B8-AC835390C287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154D96-E290-4C07-BE99-D43E11C47006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B0EFF6-30E6-4EE0-BB5D-BD57108A704E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EDAED3-AFD8-4F3E-A1D5-04D966101C1B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30001E-C01F-40B0-87A7-8384551034DC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268775-95D0-4AA2-AA46-14BDEAC41D97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F8F0E30-473B-4D1C-8577-ED586CA7E7DF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C3F5BC-3367-4BAF-8554-7C73C5DB343E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03E663-E560-424E-916B-435E5A61C853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EE9D2E-33F7-4335-8DD9-930F5E0F15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C9321-E245-43A0-B7E0-62D68D192AAD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7840D4-10AB-4319-8598-339F7D9A649C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C45F58-5E24-49F7-A933-88C71ABBED89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39546B-4019-48BA-ADF2-E4CD44A1432C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96CF73-2AE0-4F6B-ACFF-F18A9C55C6F6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DB79C2-204B-4731-B5AC-A96FE990FFDA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5B9FBE-EC11-4A85-BED5-28A165322744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0536DC-5061-4B96-A08A-D9ED107C8E1E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F13D7D-C323-4BBD-A927-BC75904F0D11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BF33A9-23D5-4C70-BC93-E05EB8EDA0F5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127EC8-9FF3-4AC9-A1BB-C07F124765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6D1B8-E5FE-42D7-A305-511744DC506B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BDB69A-5049-44EE-846C-5F428B443929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A991A-ABD4-4389-B707-F91E29BDE31E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027D6-7F91-467C-8F2F-AECBCE3029D8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AAF58-9DF0-43D2-B193-F278E62C88BB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DA960-4AF5-4DA3-A7F7-DA52F312508B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64BAF-E332-46C7-86C4-A048D9975001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65BF3-5181-4A49-AC50-998AD1C1F30B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BE90A1-DEA0-4B6C-801B-30570C014495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0FB23-E6F1-408A-AF1B-6EA056109C65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5F2B6-A79B-472F-9FBA-8BD367FC740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AAC40-98A6-4997-BC8B-8F350D4CD7B4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42BAA4-93A3-46BD-8501-69F8DF135223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E988F-4B65-4599-A177-A977E4AB0148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8C430-C387-45DD-9C60-FCB095130D18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79AE44-A92E-4196-8C3F-9C782CA43C0B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DC9C1C-7DB3-415C-BBC4-4EC58A021793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0D1E77-DFD7-453B-A3FF-3DE910D17B97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59CE84-0556-4887-B816-FB98E1F92018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1463238-818C-4839-AB4C-9BD234588663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05FD856-9AD9-4124-A0C5-90CB86B3DADA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85E1E9-E483-4C0C-89E8-937163F72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93BB-1F28-41C5-8B42-B89CC52036D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356E4-B14C-4A97-8B71-4EEE0318CBFE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7A5F7D1-8266-4182-8991-2E44EFF4A583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83BA0F3-2AE8-40B3-8CBB-695AE76060E8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25B44F9-E62C-448F-8315-6201AF6705EC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960F0DE-9DA3-406C-BB08-BFA0227C9A99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74CAB5B-2258-4DED-BF6E-127740035F43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F75423-07CA-4266-B48E-1496FFA862C2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D112EE-BAAC-4CF8-B058-446B268AD343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9C2EF3-7477-4C0B-A8A9-A3F0D6C268B5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1BE5AC-E874-4268-A21B-512B6B26B7C6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B7E251-83EB-4153-8CF7-6555AC16806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CCFF0-9361-4DE8-AA34-2D9F2AC32904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442E1A-2DCB-43D8-8291-DE6C2DEE1A07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D0493E-28D4-44EF-AAC7-6AB37CFCA356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515C33-E381-4160-88F9-7BBC765678AD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312C21-558B-4E96-9F21-7C0F8E2EFDAA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2772E2-9BC6-4DF3-ADB1-AD8CA647EB0A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7139BB-74BE-4824-AF48-3C586EAA0DE8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0ECE82-50BB-4D4A-9911-71521AF8AE40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63C457-662C-4DA0-B29A-7C9EE4C03759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3E809-B0A7-4266-9CE0-815CA00B0F66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BDE2E9-27FD-49E1-83DA-4C68F79313F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93486-446E-4419-879A-779AE615AA5D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E6D57-94E8-498C-B7A3-A92C0016F581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8FEE6-431F-4121-A024-171B28819E9F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5656F-A5AF-4D52-A75E-4C5B1362940D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E3872-B86C-4DAB-8662-17D1688FFBAE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19CE18-E2FF-419E-B161-283DF3AA26DA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79D4E-E0B6-441D-8258-F99B3B069740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F4A21-B844-4EE1-913B-3B67EF8CCBF1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9025F-2094-416E-A2D8-55C3E507BA93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55B6F-8758-4B52-974E-205851F337C1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12DCAC4-2EB9-4A8B-9402-CBC032BC818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41F2E-1A05-4C05-9FDC-9B148E8221D4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A590D89-DD38-4705-AA84-159BDEAACF02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12D754A-4905-4CBB-94B9-44D5292F053B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A9EAE9-9F1B-43F1-9FB6-2FB26CCD4D0D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C9ADE7-8EA8-4948-A4A9-CC2602826567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8DF327C-A635-423F-9F34-69C7E2EEA81D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C65AC50-6C92-4FC0-86DB-6678B0E0A782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1EE594-0BAB-453D-8427-98F421534217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385EC02-2742-4F70-87EF-36C9633327E2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B13549-9693-48CE-8349-7E76919021E6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2BE8B0-96D8-460C-805B-A568D2603A5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C1503-0BA9-44DC-A559-20FDC22E435B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B23DAA-C5D8-4035-98B1-4AADF56EFC71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B6AE8D-B69D-4637-B22B-198D9FE10236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E30C47-9F44-47F7-9159-E52BE2AAF2CD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4AA8A2-427D-426A-B09B-F48A4193C13D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5A27B7-6827-4C89-9B0F-351A48CA38A8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86540B-38C7-4772-A0F9-0CF2D097380D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6E33877-7352-4044-8345-B9D9251CFACA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A4D0B5-992C-4CC5-9221-D51540FE9253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A866EE-CE3F-4DD9-A9B7-DFE3CD434000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820146-457D-425C-90D4-8A6732A383D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3E8D3-AA10-492C-A433-25AFDC34E0FE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88139B3-0F32-4E75-9B46-3ED794BF4675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52F562-1700-4B56-AA50-C784F6BABBB4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20C88D-5239-4158-92EE-C15165203584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8DF5E6-953E-4961-9A89-7E48CC2FEC06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1BBE8-AE14-4B0D-A0F7-60F00EEC790C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1A66E6-3DDF-4E10-9E7A-A9FB916D5D3B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CE631D-CEE9-485F-A855-55994D2C4B91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6F6F7A-4099-4926-91BD-517754BAD2D9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890EA-1220-4B75-8C89-38E7C4792D86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1307F1-3168-4EE2-8D0D-5F000FD30E5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2868A-6764-4F73-8A95-7ABE9AFB815B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6D9484-E75C-46A3-ABF0-25B4CE2D8236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86072-A692-44ED-8AB7-C6608226E31E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704777-A3BF-4180-BA5A-6E7FD160FAE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A56531-6BE1-4B73-B1B2-406DA0511BEF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BF741D-D2CC-4697-9E9F-32D7632A07FB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DC1253F-81C3-4F0C-ACBE-5E136D288991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96B54F2-8C7F-43A4-AB13-72A44B1F387E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8A00237-0C80-4706-9803-C5094BA7EA5A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8F5B79E-496F-40CC-A3BD-EF24434BF0A0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3EE73BE-FE8C-436B-9A3A-2B4A36AA670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800CF-07D6-4224-9F10-A3C0C8196E33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6A4A997-B1FD-42C5-8FDF-67081181CF36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BF439DB-E269-43B5-897C-0336707C4E78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E55343B-38ED-4867-BA8B-8196CD2EACF4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0ACA7E0-8000-44D9-A791-2A1A4ECBC265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47134D9-A8B8-4DC4-BE5E-9EAFA001ACAA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5A8AC21-CDF2-4D41-918E-776ECA2573B4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A06418F-8FD9-4764-8D6C-7AF3940ECF11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049345-CF35-4D23-B729-17CC9494C739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ECA6F1-E135-48DC-A196-F09A6DBB495C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9F2F0C-4887-4EF0-9781-CB8EAC0388F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BCCF3-8941-42E4-A8C8-B321EE9BE6FE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39FA8B-A77A-4FF2-BE53-186AF9FCEB30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040401-A57C-4C84-8CFE-43C9471103AF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87B580E-1BFA-488E-AC48-B640BB77902B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ED7620-918B-4E09-8DEA-19186780B96D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94D760-9B24-4C27-9C44-C2F5408DE267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BFA6E9-3E46-4628-934E-1BBEC92C42B2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17A40A-2007-4F25-97C3-CAB2F795A07C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878637-525B-454B-857B-644EE60B6805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F2F4D4-06C8-4890-A718-0123C29F0BA6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288FA9-8BDA-49B1-9C93-3A0BB296A22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073B1-C76E-4399-B86E-C248AEF02524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AC7E63-9B41-4607-B653-431F1AC2B9E9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3A3536-2F5C-4ECD-B685-FCD75403A88C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B0E27-F79B-4837-965D-31722556124E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B6CB22-A050-40D2-898B-01CE5A78A74D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156B18-E6D7-467E-B473-7E53537AC509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E8F07-E7BE-421C-8464-5DB301EB6DF4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A66569-6246-45F3-B28D-5A105C1DB294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B9E2C6-D57F-4AA8-A41F-F4A615A6A6C3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B2CC6E-5618-417D-A749-1E834663C2CE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09ABCE-4A0A-4A6C-8935-347829EA8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0FF9-F0AD-4A38-A30A-7A40CDFE52E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45C01-C25A-4980-BAC9-7CCBC4A3AE57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0D665F-0A11-42C9-A3E5-9D67F265F9A3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F3658FB-2E23-4916-9ECE-64CD8AF050F1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7099BF2-25AA-4443-A19D-F1FAB1D295D3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F837F3-1704-4CA0-AE76-AB41DD4925DF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5ADB4E8-6AD7-4633-8941-29044E5261B7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30A2623-2E4F-4389-806D-DE921177959F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890AE05-A553-467A-A618-03CCF5EC28CC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3380629-9A3A-4933-8006-9792161E41B1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0EAB8E7-91F2-4614-BE00-B2778EDF12B0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4F8CE59-970A-47F6-851E-97C99139C57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2F76-23F2-4377-8BB9-5C4A179FC339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8BC215A-F21B-49BC-B352-79B7D6971861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04B7F0E-20BE-49D4-AF7C-9501222BCA71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2CF7FDA-2191-4D52-A12D-21F4B42963CE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F31D99C-2235-4408-BA92-AAFCA55B9D5B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CED82B-DCD5-4F71-96C8-922DBF8DAA4C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B938DFE-825A-495C-AC04-3FAC379FD99F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C7D9D1F-DBBF-4959-959A-76B6CAB00A2A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7DCBC77-ED00-4A6C-A748-99D03E389098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3A7745-A4E1-452B-8995-F7B190B64918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F0ACBF0-73C9-421F-9A9A-DD095F4A9FC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DB50-82C2-48B8-8B3F-84B38F6D24C8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B16B00-772B-4E0E-9269-8980DD993177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4AF0C0-D478-43BA-82B4-F2AE57424622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9493020-9360-4FC7-9424-B17B226167E9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C876FA2-6BA9-4FB1-AC79-321B433B1D28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E088751-67D4-4789-BA6C-AC64154B24E7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4E3B37-5A5B-43F2-87DB-472F3F0DE50A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A81432-6B75-42EE-A6A5-E310B8CD5C1E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4C68D-265B-4FBF-B557-4508DACFB377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F55236-8A0D-4B29-B764-79BB8DD70F41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4519A1-F9DE-48DE-9242-1B46B738E5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E550-C41A-4FDC-8C00-BC43C0ACF075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5C9DE-3295-49A6-A1D1-EC322531D8E0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52BC99-76E9-4FA0-8A70-C87F6454D571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6CF3ED-81E4-45E7-BCE2-E4654885C2B9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BB9CA8-D354-40EB-A0BF-971D9CC659E5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A9D10A-0D4E-41FC-B103-AA8F80EAB910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5CBF0E-04F1-459A-B1D3-6127B315BCD8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74846-1B26-45CE-9FDD-F5D1E48E6F60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ED4B95B-4B2E-4AF4-A1AC-17AE415B5259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276F5DC-5795-45F7-BBD2-C73835F322D7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ECECDD7-A83C-44DE-8689-B97C45CFC5B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EFEF-A62B-4B15-9385-5556301F8E52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57D655C-749E-4CE8-A83E-98393D9F5D75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3DE3A8E-39A5-4A6F-956C-74E978BD8D91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D50D1AE-5916-48B0-A94C-99F2883D1019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15BB8E1-B4D5-411E-B100-5B3D167A9141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B158726-06AE-4F0A-9FB0-D57494231BFF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EA2CFE4-C27B-402D-9ADC-6D66F48958F4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BDE67F4-5ECD-439A-96C9-9682AF8BF75F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2946BE7-3C08-44EC-B3E8-621B2A5A9602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60A875E-E066-4EEE-A4EB-B24386371FBB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EBD839D-E0C0-4FDB-8E46-B4E19839DFF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108B-16CA-474D-A7EA-6A710EA06F42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8637C1-E9CC-4CCC-9CF0-1B0F4D320E9A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FCB670-9D83-4D92-AE05-0F3928032689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612F5B7-743C-4BCA-BE55-A0CB119283E8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D9BE7BB-A21F-4EBA-8E95-86A37DCF06B3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81AA4E1-A932-47C6-9B8D-1AC852FE44BA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F956124-D7FC-4759-B013-1FF5A91D3E47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11F8AC-C070-4D97-A9FC-D35503DD2092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5961BA5-A127-4A20-A5D5-22E98AF14B61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3A53A72-9B15-4B2C-B528-E87276F94D63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CEC1C27-A910-48DC-9A73-96262B9D06B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FB23-4F17-4A50-B18B-32FC9436CFC8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AF8114-23BC-4F0B-B3E6-FCB322523D1A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5AA9AC-46DC-4D54-90D2-0FCFB026C501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B26C24-0C4F-43F0-A84F-1F27318C19B5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B60EF1-5A57-46CE-A279-F817A19099CB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400C38-9A97-4114-BD2E-400F543E4560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4E778A-F15C-4D1B-8DCA-28E37D75564C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0CA1B7-21DC-4D0E-9C3A-1AA60E5F68F3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E17D8D-7C0E-4724-A0C0-82C6AC55D37A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94B101-D366-4FD1-8416-AA3090123BED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2F8D9-9691-4DD8-A071-D9CEEE6BB7D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878F-E57A-44FD-90FB-DEB016605A0E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E7F448-BE18-4267-8706-E85316B9E880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391151-ABF8-4FF9-AB0E-D791693436F6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18C96D-E8F2-475F-BA51-4BDCA57D63D2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E55E176-F79D-4C65-9378-EA03B02E949B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3F7689B-8DB2-4ED1-B2BA-B3CCF839841F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BF708A3-865C-46F5-A793-D6878018C9E0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2303A29-9E51-485D-8344-1C984CB93345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9D1BAD8-1DB5-40AD-8D0F-B12094F62344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825B0DC-EC4A-42A0-8FAD-44B0AD47765D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22A48C-0B4F-4694-814E-1E6A5F47522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0E1A-AD8F-400F-84CF-889169B6464B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8B1C8B8-16B5-4782-92F8-80FB6A2926F7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3CD609E-0842-4BDA-99AE-D853A04C4F05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AB3F544-1084-4352-B45E-5E98E394B167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29BBEFB-FB54-4868-8486-636ED432024A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8F10F34-1917-4926-8B12-F55B7FB03B1D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C5A1063-BDBF-4ADC-87B0-ABE89F09D4B0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2D4697-D387-46CB-907D-21AE6E4DD6BB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0893829-6406-41C9-9BF9-B51F386D6801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FBFE39-475C-40C6-B926-EE4AA488FA17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7BFB11-9EAE-45C7-A38F-89AF118C36E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9321-FA35-4C15-9559-BADFC910BCEF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D2AA3BC-7430-4DBC-98D8-EA59AA4F531B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269C7F5-1158-4BA6-A297-BCEE8691781A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56C677B-02C9-439C-A933-011E04F43A44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E1381CB-9F61-45D7-8234-EAD99745458C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F368C35-73A7-4E19-8562-40C421472B10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502E03A-4026-4742-95FB-385CEC25FEBD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B6E2E8-EA43-431C-85E9-DE0C4AAFD435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871BD-F14B-4599-BBCC-9841CE0C9350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217C99-A016-4A61-8104-F05130C39740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B3AE80-3A2B-4EBF-B925-DA471AA65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1D97-1564-44C0-A79B-466C0041F47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2C64-47C4-48F3-8CAE-7CC029B7032D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6A836B-EE7A-4021-A649-BFEC10799B04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310C31-D5C7-4B90-A7B3-E8E7EE5C760B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60C625-A972-406C-8BDD-AA9D209F0CBC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7146F4-15F8-4132-B166-FE71E333DBD6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35D211-00E9-4C0B-B362-B1B1573DE2FA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4DE2A-5E5B-4CFB-B162-AD3308EF7B74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70850F-AE11-48E1-860C-F7DCC5F32375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1CCEBB-C928-4BEC-92B0-E5C8CF33642A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89A055-0858-4492-A178-97AB74A0C3D8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648850B-F405-44CA-9663-34816C3561A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9AD3-409D-425D-A669-AF8F97103A42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571B10D-D68F-440D-A718-0E74789DBF3F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C91FD21-4742-4CD1-BCC1-7A5E460701FA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1B6D6C5-7469-4C20-B328-488D4DF454A7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21D229D-154F-4AA0-B3E8-DF19AF01ED85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3B262B0-9AEC-402A-88CB-0792571FB67C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79B0841-67D6-43C7-9C54-635F6B7997E5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09B73A1-E443-4728-A66F-E4B47B1F50B3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26E854F-6429-4165-B38A-2D7E074020CC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8B7529E-B31C-4238-B3A3-3C6A77A91D6A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6F5BFAA-CDC0-462B-A678-018B61065CF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B164-E371-4F57-BA13-F6621A67B979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457508D-C499-43CB-9470-3B053A393C89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E57E8C3-5EB0-4333-A293-A9BEC13E6503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CFF1C0F-15EE-4CE5-A833-1CD750D93BA9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B01ED75-24B3-4A1A-AB2D-C0270002733F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396D51D-D5FC-4019-A2BF-F0F77F4B6C72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58B7C85-16ED-46F8-B009-0E6679C86838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6904F99-88ED-4BE2-B6DB-85FECDEEBAD4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1873947-7971-4F2F-9082-A5A1E7B0D382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245AC41-8164-47A5-BC67-1659C8B9116D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5629D08-524B-46B5-9FE9-DF0A8C71716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A810A-3BA4-4369-89A7-91AAAB33DDAC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D2E7A84-35F5-4BA4-B51D-19E97D5DDE1B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C4C1C75-438D-42B9-9851-D87E8550F3F6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BFFEEB0-7238-4818-A0FC-DCA9DFDF63F1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BC8CEA-5624-4735-9684-0C453A1DEB91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C56720-9358-468F-8133-AED71999770C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431787-AC05-4AC5-B488-4708CB9F3F40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1F4333-A4BF-44E7-A9B3-2CB4F2C3E3FA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CC42C2-1549-45AF-945B-C1DC8974E9A5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811694-F4AF-4941-BB1B-C1EEADEE3F4A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F2FF62-9014-4E61-9FBC-7907DD57D28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62DCDB-6B56-4FA9-9273-65057EAF404C}" type="slidenum">
              <a:t>&lt;#&gt;</a:t>
            </a:fld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138EF7-172C-4650-B802-C7EE0994F326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2585A3-1E11-4E69-A77A-3095C792C7B0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A26225-EBFA-4CAA-9A34-34D5D09B44E9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F50F3F-C2D5-4A66-8466-7038E1FE879D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A41D91-98F0-442B-815F-F3F1476DDB18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0A0176F-58FE-4FD4-A44B-372A587A222D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DF7554B-B27B-40DE-B384-ED31DC715A46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3D85AD7-38D8-4190-B85D-369304237D0D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1322A1E-25FB-4EF0-BA19-3A191D1F253F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E30FCCF-4635-4BAA-85F8-88F638D1731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240D9E-1D1B-4F2B-B5D1-FAA381089690}" type="slidenum">
              <a:t>&lt;#&gt;</a:t>
            </a:fld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3DD0A6F-D149-4FBD-B89C-B4AD7469C21E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7134579-BC2F-487C-BD77-AE3817FB975D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A9911A8-0017-4962-81A2-13B4C0DAB044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C03FA49-4BDC-4399-BEC9-94C2ADCDC7F6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090C4CC-9447-4D80-BD6E-4935FFD50D57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88572B5-7589-46F5-8BBE-6C57D0DD5CAF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6DEC943-819F-4C36-9C0A-4B8594AC5508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630048C-1DCF-43E4-96B5-F9AA47A3F7F5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1CD4484-093A-46C4-B8FE-95AADE79AE10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78C0059-D014-4A8D-99ED-03EFABF0421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22585C-3F59-4F6D-9173-CE1FF5EE4513}" type="slidenum">
              <a:t>&lt;#&gt;</a:t>
            </a:fld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8A7B63F-C6A1-4B3C-A306-A3DB96F8A55A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275B9B6-D248-4E53-ADDE-DA80332F980A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9322DDE-2129-4B13-93E9-1CB73C2A013D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702C4CC-E9FE-4D74-B7A9-20BFFC997A10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8C8BD75-A294-40EB-984C-BB4807259D54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F6F63C5-3948-47D0-B94E-D9F0777057E5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796B86F-252D-434F-9974-C0B5287A1B7B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EC3E0B1-BC46-4336-8012-9B3D693DE990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F2C48AD-0E3C-4FC7-A57C-7F9C4EA65669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50969D-4490-498B-A2B7-5FE553680F8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7A3562-1280-459F-99E5-539B76E37E73}" type="slidenum">
              <a:t>&lt;#&gt;</a:t>
            </a:fld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E18165-70A8-4A77-95B3-6E7C1F34E1EA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065392-CD6F-488F-9688-32378F91F5EC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C1E23C-BA53-42E6-9987-CC94AEC71153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2F8166-6D9F-4A97-9513-F2605E6814A5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ECBF59-33CD-4D87-995E-6691C7C06C31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D27E3A-9D77-4863-8FB3-D108B46F7F36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A540DE-375C-48E5-94BD-578F59B92EC7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57C3DC-FD95-48A3-ADB2-A5EBFCD770BB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172EE2-ECF9-41C1-B1F4-C8DDD3139E49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ACD620-8942-4855-B611-949FF2CE60A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700660-2D8A-4AFC-8EE2-E65A2A35A399}" type="slidenum">
              <a:t>&lt;#&gt;</a:t>
            </a:fld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338B3E-A8B6-42A4-9EC6-5CA9140FFC4D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97C79BB-E357-4C15-A113-08D3653B3EEE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ECC53D4-EB59-4214-AA70-60FFD72DE01E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E54F880-E392-497E-9088-D2E69D0E94F1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0013444-13DC-4866-ACDB-E5BBBA4BDCF3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E5551D2-398A-4818-A524-14D3B0DBF3B2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2B870B8-DDF1-46BF-B98F-25594B553D03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F28CEEC-F0F5-437C-A2E2-4D242F5A3480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C544F41-AC4F-4E84-A5D0-B95D0D006884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0696116-421F-471A-88B0-59001CC937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C84CE6-4673-4866-AEDE-B8FDBB7EC066}" type="slidenum">
              <a:t>&lt;#&gt;</a:t>
            </a:fld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2688ACA-272D-4E4B-8BCA-A17876C7452A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111DB62-88D3-4F18-B2F7-17A5776C0138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C2EE96C-4E2B-4C45-9C1F-A177DA80F045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69C630E-4AD5-46AE-A5FD-BD8BE279056F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6F1051E-6707-4D9E-B47D-7F131402B5DB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7691805-39E2-429E-9CAF-187361F083BC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E505029-125D-41E0-A414-8F68986D97F7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F0DAEEE-E8DA-49A1-9552-D66ED6E6D1B9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A0E2F45-D4D8-45F2-AE50-F1B021687B6F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101F549-64D5-4FEC-AA63-10F03DB92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C7A0-DC45-4729-96F6-C27718C16F4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0FBA31-B1E6-438C-B4C7-5652B45F8E61}" type="slidenum">
              <a:t>&lt;#&gt;</a:t>
            </a:fld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0CD814D-139E-4744-9F16-75B256D56645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428C1DE-FEA5-472D-B7F7-2925682EF9F8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52A0D35-913A-4617-9A8A-9431E380FB73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C43401A-2988-43BB-B97A-8D67D4793F70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4F26158-D30D-44DA-8815-88E5A48AB354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F75C2C-5D82-42AC-A72E-AA7DF02E8D87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F9A7C0-9807-4144-8FB6-563F6F97B534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29A11B-4C70-4D19-97AE-8A30748E91BE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5D2902-34CE-4E84-B511-D498257FB1A4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F4DA87-B8D7-4253-9082-3D365628956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9643C9-15B9-4DBF-975E-99AED75C5BC0}" type="slidenum">
              <a:t>&lt;#&gt;</a:t>
            </a:fld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5D2082-13CD-4692-BA9A-F838B106FF04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B85FF8-DED7-47EF-9338-A130BAA1EF33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61B571-3410-45A9-A2A1-C725BD867CDE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0C21DA-DAF8-4D4A-AB23-D0D786B21BA9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0CF587-471C-46F6-98C9-CF52A1528950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C2E5BA-889B-4C7A-881C-F6BAB0EF9444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59EC5D-94D7-466A-BE64-DB8C9DF36E0F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BAC8AF8-CD90-4088-A4E3-FCF420C9B5F9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01E6287-E8DB-4DF0-B31D-4B6A5E4335FB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2B5D6B0-46B3-479A-8CFE-1EFDDBF5593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2BB6FA-F86F-4EFA-8C38-04A8782D67BC}" type="slidenum">
              <a:t>&lt;#&gt;</a:t>
            </a:fld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0815D20-10F0-4125-9BA9-6BE1ABF62462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FCAD9EE-F3F0-45B2-931E-878C232CF390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D2BB870-D562-4AB1-BAD4-C71A9B02B227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7CFFBCA-94F7-4EAD-9EB6-AA60E11FD506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F218670-3DA7-4F62-9932-2E356D4F4968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AEF42C0-85AC-47C9-88E2-30ABF409733E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B3C11DA-BA14-48C5-944E-1F969A8088BB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9FBDC5E-AAB5-494A-B1D5-800FD6B515EB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E6836E4-874D-4F3D-A2E9-A5DA98BD9D3D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6832C32-BEAF-4C56-AF9F-D41034E2A23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C6DC79-76CA-4ECE-AE7D-F40E19D1DF9F}" type="slidenum">
              <a:t>&lt;#&gt;</a:t>
            </a:fld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5156E4C-B6B7-4EC1-A7F4-D8999329EE40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989AEC3-5816-41DC-8D82-C84034C7FF3B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C949890-A563-471A-A306-580B065464CB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1A48133-E9BE-4339-A4BE-505BD4E5F80C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E839697-4CBA-483A-86FF-AE2770ABB782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1F4D282-F6B2-40DD-BE8F-90DEA94E4292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078D08D-03DC-48F5-88FF-7B436BEF1D38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5FED897-7BB0-42A4-A4D1-59EDBEF1B10A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3019A28-8934-4232-929D-FA5B3B96B06A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D187755-A581-4321-BEAC-CDA83626994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118064-18A5-4F99-A785-19917DEDAF04}" type="slidenum">
              <a:t>&lt;#&gt;</a:t>
            </a:fld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79168A7-4207-44C7-A702-475F1DB3C1B5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A40840-C9B2-4185-AF3F-ADE5DE42F3AB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88BE6D-DD2D-4864-A610-458FC5D74677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E721F3-F676-458B-84EE-639ECA2F9245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C67B3C-D210-49E5-9A1B-579791874CED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FC87A9-22B6-47B2-B235-9DD520B269FC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2A180A-8333-4F5D-BCA6-0CB57C22B52D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3174C3-C840-4021-B1EF-0E08F297C6D3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9553F9-51D5-4FDD-8C9A-9E4D5A391867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5FDE0C-5D2A-4D28-A789-543F54DF979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52DEE-7E87-4645-A0DB-9568302AE77F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FFEA16-CBBB-46F3-835B-F5B6D3DC7376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03C503-0A07-4B51-A966-DA90BBE6AB65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D3F015-40E2-4448-B1BE-2E2BDC3AB649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0EFE195-1A15-4857-83E4-783F2F8FEF6F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6436A34-5484-4344-A354-9E0BA660F4CF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0D3E0F8-FAF8-4539-8FE8-D872B4E60FF4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4E3B512-2D64-4D53-A3CC-B01CB5C9FB87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0F83456-3DAE-49F7-B0F0-B69FE5E9030C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26C99D9-CC45-45ED-9FED-34AFCD29909F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0A752B6-E140-4A59-A7A9-64373559425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404C8-4630-4894-8F54-B55FDE53012A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E4BEB90-0F7E-4EB3-9CAC-39609D298E25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393C251-21A5-41C7-AEDF-859F2944668D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9907425-6868-41B9-B511-7D6E0971DF51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D57A94F-289D-4606-B012-00A08D10E6C9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12F05CB-F4CF-4A6B-97F3-31A108E350C0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85F3807-B348-4C8B-BDF4-48153E2CD368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AE8324-1AA3-4D27-A4A1-C5FF0CAF0D96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172377A-DBE2-43BB-BFED-15B6E82B3C42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090F14A-9B10-46BC-9142-8A0572CBA51E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3B4572A-8AEC-4F3B-A4A5-12A803FD836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70319-80B0-4705-98B7-0B97AA11D228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90202D8-3673-40C7-85BA-8D40F84DCF98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2B05822-1BC9-4F74-8EC8-AA1ABF53C77F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C4D0668-EDA5-4F6C-BEC8-FF3F964D4DFD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1DF6339-317C-457B-B806-DE338B8ABAC5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D2BF31E-0469-4ECF-9756-DBC8AD58C2E1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9F4D3FC-3CDA-4B75-88DA-C3F47B12BBEA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840A465-E536-49FF-96DA-44C63B87DB16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93C11F-B104-4CDA-939C-43AA7924AC11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8F6CAB-513B-4BD6-9375-05AF1F39BFC2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1C57F1-DC4F-4B57-819D-663B794E715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B9A3E-F768-40B3-B0AB-F5ADFB6EDC12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B516F7-67A8-40B5-B4BA-EC0ACAA960A5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60FB88-7FC4-48D6-A40C-534E976B830D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8FA2B8-C5AA-493A-9F13-6D2C0F6E039C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41A9DF-6AD9-4489-BDB5-5A9AE09E66DB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DF4C57-F5AC-4AD5-8B2C-37E2547BAFAC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25573B-FAD1-4D63-A6B1-F0C2AACAA04B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6627D6-9B61-4584-974B-D9A5B7D7B89E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C9E3C0-B6AD-4622-8F06-ABAFD3A3FCA0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C7DE22-6FD6-42B7-A602-7DE3ECC6D336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BAE8BE3-1C49-4AC9-9804-048276C9269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D1510-E2D7-4A9F-A90C-328BF59D6212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BE042B3-0239-4B14-9ED3-97C8531D7034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FDC6C99-3AEB-4F8D-9394-8BFC4FDCE000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94595FE-CA94-4783-93E2-EA95BA3A41F8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6710B9C-E3DC-40DF-BB47-53D05BDB9605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7B607C2-D624-452E-9075-C9677E7B9750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045AB52-B76A-492B-88E9-49C22ECC58B6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694AF29-0FC0-4DBF-81A9-E7BE5AFDD206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3ED99D7-10C1-477B-8C02-D24263833394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8F3D61E-6C3F-497F-837C-C3DBECBBD05E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B4EDFC2-0A4A-4961-96F7-DC5AE49BB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BCF9-92FA-4108-857F-1332DE1414B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DE189-864F-4370-BE3C-0BF204A5CE07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3C9329F-4E13-4BB3-A3AB-C4E59BE12AFA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0F5A7C9-89B9-45D4-A618-0A9174680273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F3B4D72-0E97-4721-8171-BEB6F24E63D2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3E7348A-BDEE-413E-9977-63B8CE4D203F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1023666-B6ED-46A5-8D89-6D094A61CF3B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A9C383F-CAFC-4ED3-B65A-0854E4E2FEB7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705997A-B4EE-4B1D-B477-E90BB6C762BC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57F981E-7766-4304-A206-CF81C797BE05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A635318-6723-4177-A639-7C6E6086857C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0742BEF-D723-48F4-A76B-A02AB882647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862F2-B28D-46AA-AB75-ACE6DEBF719A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1FF33F2-5697-49F4-B8C5-B8A998FD0A91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FE42975-4496-48C0-B5B3-52DC845A3C9F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F49D745-1A44-412C-9779-5DAEC588EC94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7A322A-8462-4423-B799-1E856654B4AD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DB4078-2F60-40BC-B643-CFBED1E10108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46C2A3-D47D-45F0-95C7-D9CABCE34792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2D976D-7653-4030-9CD8-F24B6C83B793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BA076A-7194-4002-900E-46D6D4785C86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8670D3-8341-4466-A80B-8241F37629AF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B51696-EED7-4915-A964-C363DBAB0A8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4EF1D-440F-47D0-B3F2-9E653FB3CB99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38FAC7-67DD-4855-A723-0033873F2458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88F1F0-CB88-4096-B322-06E2DDA445FD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128AFC-EBFE-41D2-BBD2-61FE4ACF3850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596C9F-FFC3-4788-8543-148ECCDC40BB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C6C5A8-B179-4A8E-8F41-A5AC90A9B087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72378E9-D7B2-49D0-B058-4AB4EF5C2B5E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C3042D1-7B65-40EA-A72A-E89BB7304387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8FD0815-4F01-4BFE-B9A3-605FCF363877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866E095-47B2-403B-9A92-16AE43C0A561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5EAD415-CC06-49A1-8104-8288B12831B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36BD6-B95C-4496-A6D1-543BABB9013C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119926E-8B6F-4628-A15A-57D02084A7AA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47B2321-550C-4D3B-B17D-E3329A949BD9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B1679B3-51FE-4A6B-8D69-33AA060D1B48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4D83662-613E-4743-A0F4-8D35316410B3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BD1B05E-DCAD-48D3-94F2-1F5AB7CF2E8A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E291DBC-C23A-435F-ACA2-D871C50B4306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14807B1-CFC6-47B6-AC53-F26BEC3693CD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E070ED0-E50E-486D-8B4E-A1C150835676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C30CFB0-32FE-405D-AC9F-4CF5498A4551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4BECF19-97CD-4858-B7BD-DB8BD62A86E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C0C8B-3E07-48C0-BA60-BE23823AB648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393C2CC-C0F4-452C-9EA1-D32C36C077DB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E8E9E50-6286-458D-ADAC-81D3DF85396E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4EBB507-B53A-4961-9AFE-9F165EECEEF6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1732D16-D21F-4A89-8751-AD9F440FC131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66842A2-FAED-4C0F-842D-0150F09A9886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CAE8B70-5247-4E83-A5AC-4EB3207C61EA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28B6583-B34C-4C26-869C-DFE6230F371E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22A3CA5-D018-45DD-8529-BA7D05910C4B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2D9E69C-8CA2-4034-8CB3-E12E02078970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1ACD68-DD66-475E-8D25-D3A4781B377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DDCA7-616F-4D59-89AB-D028D5F9CFFD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BDA54F-1268-4077-BF7A-490DB7EA61FE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959370-94DD-4EA7-95F0-0A6D6B1A341B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281682-3DA6-4F0E-9699-B20118E96DB7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C2C137-8991-4CDE-82CD-F6CFFEB22076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731E1E-B3D0-4F72-BA94-2AA8A202BF6F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D690AE-A3D2-456D-8FA6-C3E9FC1D5ADF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C1AB0E-AB82-4AC8-9EFC-EA0E1A637027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A8C7CE-6B03-4666-B84C-BCDCA950F2A7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A51F2A-A174-4045-8AFE-AE700AF8F5B0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06B7C6-3611-4602-A8D9-FFFC9E3238E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223F6-B005-4CEC-8565-D289CF8F03FF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E4B9E3-C17B-48F7-947E-7F3EE84B3AD9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FFA511F-B6A9-4EB1-8C89-57CE4DBFC17A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B8569D2-C283-4FE0-AA69-9A6D7607592A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9655EF7-A95A-468A-B651-59DF3F0D9CCB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B4C3258-8F1F-4697-9CC4-A03CF0C9CB11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474695A-9AD7-4D31-AE42-25A6BCFAAE3B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DCD8098-EB90-4FC8-969F-058EF8D12425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30A30CD-5C23-419A-B1ED-1758F757CA2F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184B83D-E07C-410E-8E55-E9E8F017146A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3F18197-E9DB-4F98-9E3A-C5047AAC944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52013-034C-4B22-8A81-9E04167F8914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79ED290-F1B2-4E5F-913C-FAA5C4EBB8A4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0B3E9AC-38A4-410D-83DF-C304A37BA6ED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F845968-1DE7-4AD9-8353-1827E9DED5C8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0FDE6F3-AAFF-405A-AE92-FD3CDB19BD8F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B80EB92-E3AA-457F-9680-29500F746A6D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DD78FC2-1832-494B-BC41-24C7186A81E1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88B0227-0823-4386-8EAC-0715AD171BC1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6FBFBF0-45FC-43B2-A4B3-67C881BF85D9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8C6A258-14D3-4B96-87E3-9722962CB075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F1EF8F9-8931-4761-84E8-BE6BBB736A2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C38A-2A1A-46A0-A101-952A5907A776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5D23169-DE91-4926-A5B6-A4464F8EAEBB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6B5459E-A96E-4448-A7BB-B04B08BC47E5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2F45AEF-D5A5-4E88-A4B8-3A17988231ED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8EE462E-6495-48A9-963B-CFAFFE2A670A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D92109C-5C1A-4141-A32A-260A6A982717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948206-5E58-4C37-A631-6A2478ECB3C5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9B9CAA-8AB5-4A87-A1B7-3F61CAA4BA10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475976-4031-48B4-8D44-A4AA0092C644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DE4BFF-BADA-4928-A09B-26DA9F0567CA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6D281C-05B2-4AAF-A652-0E10CB4DFB3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FBA08-85B1-49DB-9286-2E6AFF62DAF7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D7826B-56F3-49AF-B1B8-43DB3B936C45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CE604D-6391-4639-BD04-0776EF0F5555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9A57C0-A816-424E-8116-B30E65D5F943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22DE0F-1706-400B-9B19-E8C35D799DB0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71E5F4-3F90-4BC5-AE6C-95ADE843EF6A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0846F5-4D79-43B5-ACBC-041315084640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4D5D98-F288-41EE-AAFC-F3FB1B4E570A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A1C1B71-44D4-4F17-86EC-631D1ADCAD37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16DE695-10A6-4CBA-A840-839C249970B2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F430DEC-7976-41BE-8F99-EEB450A95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slideLayout" Target="../slideLayouts/slideLayout1813.xml"/><Relationship Id="rId3" Type="http://schemas.openxmlformats.org/officeDocument/2006/relationships/slideLayout" Target="../slideLayouts/slideLayout1814.xml"/><Relationship Id="rId4" Type="http://schemas.openxmlformats.org/officeDocument/2006/relationships/slideLayout" Target="../slideLayouts/slideLayout1815.xml"/><Relationship Id="rId5" Type="http://schemas.openxmlformats.org/officeDocument/2006/relationships/slideLayout" Target="../slideLayouts/slideLayout1816.xml"/><Relationship Id="rId6" Type="http://schemas.openxmlformats.org/officeDocument/2006/relationships/slideLayout" Target="../slideLayouts/slideLayout1817.xml"/><Relationship Id="rId7" Type="http://schemas.openxmlformats.org/officeDocument/2006/relationships/slideLayout" Target="../slideLayouts/slideLayout1818.xml"/><Relationship Id="rId8" Type="http://schemas.openxmlformats.org/officeDocument/2006/relationships/slideLayout" Target="../slideLayouts/slideLayout1819.xml"/><Relationship Id="rId9" Type="http://schemas.openxmlformats.org/officeDocument/2006/relationships/slideLayout" Target="../slideLayouts/slideLayout1820.xml"/><Relationship Id="rId10" Type="http://schemas.openxmlformats.org/officeDocument/2006/relationships/slideLayout" Target="../slideLayouts/slideLayout1821.xml"/><Relationship Id="rId11" Type="http://schemas.openxmlformats.org/officeDocument/2006/relationships/slideLayout" Target="../slideLayouts/slideLayout1822.xml"/><Relationship Id="rId12" Type="http://schemas.openxmlformats.org/officeDocument/2006/relationships/slideLayout" Target="../slideLayouts/slideLayout1823.xml"/><Relationship Id="rId13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slideLayout" Target="../slideLayouts/slideLayout1825.xml"/><Relationship Id="rId3" Type="http://schemas.openxmlformats.org/officeDocument/2006/relationships/slideLayout" Target="../slideLayouts/slideLayout1826.xml"/><Relationship Id="rId4" Type="http://schemas.openxmlformats.org/officeDocument/2006/relationships/slideLayout" Target="../slideLayouts/slideLayout1827.xml"/><Relationship Id="rId5" Type="http://schemas.openxmlformats.org/officeDocument/2006/relationships/slideLayout" Target="../slideLayouts/slideLayout1828.xml"/><Relationship Id="rId6" Type="http://schemas.openxmlformats.org/officeDocument/2006/relationships/slideLayout" Target="../slideLayouts/slideLayout1829.xml"/><Relationship Id="rId7" Type="http://schemas.openxmlformats.org/officeDocument/2006/relationships/slideLayout" Target="../slideLayouts/slideLayout1830.xml"/><Relationship Id="rId8" Type="http://schemas.openxmlformats.org/officeDocument/2006/relationships/slideLayout" Target="../slideLayouts/slideLayout1831.xml"/><Relationship Id="rId9" Type="http://schemas.openxmlformats.org/officeDocument/2006/relationships/slideLayout" Target="../slideLayouts/slideLayout1832.xml"/><Relationship Id="rId10" Type="http://schemas.openxmlformats.org/officeDocument/2006/relationships/slideLayout" Target="../slideLayouts/slideLayout1833.xml"/><Relationship Id="rId11" Type="http://schemas.openxmlformats.org/officeDocument/2006/relationships/slideLayout" Target="../slideLayouts/slideLayout1834.xml"/><Relationship Id="rId12" Type="http://schemas.openxmlformats.org/officeDocument/2006/relationships/slideLayout" Target="../slideLayouts/slideLayout1835.xml"/><Relationship Id="rId13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slideLayout" Target="../slideLayouts/slideLayout1837.xml"/><Relationship Id="rId3" Type="http://schemas.openxmlformats.org/officeDocument/2006/relationships/slideLayout" Target="../slideLayouts/slideLayout1838.xml"/><Relationship Id="rId4" Type="http://schemas.openxmlformats.org/officeDocument/2006/relationships/slideLayout" Target="../slideLayouts/slideLayout1839.xml"/><Relationship Id="rId5" Type="http://schemas.openxmlformats.org/officeDocument/2006/relationships/slideLayout" Target="../slideLayouts/slideLayout1840.xml"/><Relationship Id="rId6" Type="http://schemas.openxmlformats.org/officeDocument/2006/relationships/slideLayout" Target="../slideLayouts/slideLayout1841.xml"/><Relationship Id="rId7" Type="http://schemas.openxmlformats.org/officeDocument/2006/relationships/slideLayout" Target="../slideLayouts/slideLayout1842.xml"/><Relationship Id="rId8" Type="http://schemas.openxmlformats.org/officeDocument/2006/relationships/slideLayout" Target="../slideLayouts/slideLayout1843.xml"/><Relationship Id="rId9" Type="http://schemas.openxmlformats.org/officeDocument/2006/relationships/slideLayout" Target="../slideLayouts/slideLayout1844.xml"/><Relationship Id="rId10" Type="http://schemas.openxmlformats.org/officeDocument/2006/relationships/slideLayout" Target="../slideLayouts/slideLayout1845.xml"/><Relationship Id="rId11" Type="http://schemas.openxmlformats.org/officeDocument/2006/relationships/slideLayout" Target="../slideLayouts/slideLayout1846.xml"/><Relationship Id="rId12" Type="http://schemas.openxmlformats.org/officeDocument/2006/relationships/slideLayout" Target="../slideLayouts/slideLayout1847.xml"/><Relationship Id="rId13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slideLayout" Target="../slideLayouts/slideLayout1849.xml"/><Relationship Id="rId3" Type="http://schemas.openxmlformats.org/officeDocument/2006/relationships/slideLayout" Target="../slideLayouts/slideLayout1850.xml"/><Relationship Id="rId4" Type="http://schemas.openxmlformats.org/officeDocument/2006/relationships/slideLayout" Target="../slideLayouts/slideLayout1851.xml"/><Relationship Id="rId5" Type="http://schemas.openxmlformats.org/officeDocument/2006/relationships/slideLayout" Target="../slideLayouts/slideLayout1852.xml"/><Relationship Id="rId6" Type="http://schemas.openxmlformats.org/officeDocument/2006/relationships/slideLayout" Target="../slideLayouts/slideLayout1853.xml"/><Relationship Id="rId7" Type="http://schemas.openxmlformats.org/officeDocument/2006/relationships/slideLayout" Target="../slideLayouts/slideLayout1854.xml"/><Relationship Id="rId8" Type="http://schemas.openxmlformats.org/officeDocument/2006/relationships/slideLayout" Target="../slideLayouts/slideLayout1855.xml"/><Relationship Id="rId9" Type="http://schemas.openxmlformats.org/officeDocument/2006/relationships/slideLayout" Target="../slideLayouts/slideLayout1856.xml"/><Relationship Id="rId10" Type="http://schemas.openxmlformats.org/officeDocument/2006/relationships/slideLayout" Target="../slideLayouts/slideLayout1857.xml"/><Relationship Id="rId11" Type="http://schemas.openxmlformats.org/officeDocument/2006/relationships/slideLayout" Target="../slideLayouts/slideLayout1858.xml"/><Relationship Id="rId12" Type="http://schemas.openxmlformats.org/officeDocument/2006/relationships/slideLayout" Target="../slideLayouts/slideLayout1859.xml"/><Relationship Id="rId13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slideLayout" Target="../slideLayouts/slideLayout1861.xml"/><Relationship Id="rId3" Type="http://schemas.openxmlformats.org/officeDocument/2006/relationships/slideLayout" Target="../slideLayouts/slideLayout1862.xml"/><Relationship Id="rId4" Type="http://schemas.openxmlformats.org/officeDocument/2006/relationships/slideLayout" Target="../slideLayouts/slideLayout1863.xml"/><Relationship Id="rId5" Type="http://schemas.openxmlformats.org/officeDocument/2006/relationships/slideLayout" Target="../slideLayouts/slideLayout1864.xml"/><Relationship Id="rId6" Type="http://schemas.openxmlformats.org/officeDocument/2006/relationships/slideLayout" Target="../slideLayouts/slideLayout1865.xml"/><Relationship Id="rId7" Type="http://schemas.openxmlformats.org/officeDocument/2006/relationships/slideLayout" Target="../slideLayouts/slideLayout1866.xml"/><Relationship Id="rId8" Type="http://schemas.openxmlformats.org/officeDocument/2006/relationships/slideLayout" Target="../slideLayouts/slideLayout1867.xml"/><Relationship Id="rId9" Type="http://schemas.openxmlformats.org/officeDocument/2006/relationships/slideLayout" Target="../slideLayouts/slideLayout1868.xml"/><Relationship Id="rId10" Type="http://schemas.openxmlformats.org/officeDocument/2006/relationships/slideLayout" Target="../slideLayouts/slideLayout1869.xml"/><Relationship Id="rId11" Type="http://schemas.openxmlformats.org/officeDocument/2006/relationships/slideLayout" Target="../slideLayouts/slideLayout1870.xml"/><Relationship Id="rId12" Type="http://schemas.openxmlformats.org/officeDocument/2006/relationships/slideLayout" Target="../slideLayouts/slideLayout1871.xml"/><Relationship Id="rId13" Type="http://schemas.openxmlformats.org/officeDocument/2006/relationships/slideLayout" Target="../slideLayouts/slideLayout1872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DC586A-980B-448B-B78F-4C6E5F85782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370BFB-9D11-48A5-BD3F-FECFD803012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 type="sldNum" idx="10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91D550-D0C5-4044-A7A7-51D48834695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 type="sldNum" idx="10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13609F-E0F8-47A4-9D44-C1AFB065270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 type="sldNum" idx="10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60DCA9-D27C-4CCD-8137-20C1A58D8DA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 type="sldNum" idx="10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45F44E-9A4A-425E-8B33-9A4A3F6020C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 type="sldNum" idx="10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3BD6A8-F188-441D-87FD-F444888E7E3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 type="sldNum" idx="10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B11576-7131-41E8-9B1E-82F2DB0ACBB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PlaceHolder 3"/>
          <p:cNvSpPr>
            <a:spLocks noGrp="1"/>
          </p:cNvSpPr>
          <p:nvPr>
            <p:ph type="sldNum" idx="10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108605-D80E-477D-98B5-3F9C89EE160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PlaceHolder 3"/>
          <p:cNvSpPr>
            <a:spLocks noGrp="1"/>
          </p:cNvSpPr>
          <p:nvPr>
            <p:ph type="sldNum" idx="10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1061BD-F4EA-4B0F-BABF-3D7CAE07159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PlaceHolder 3"/>
          <p:cNvSpPr>
            <a:spLocks noGrp="1"/>
          </p:cNvSpPr>
          <p:nvPr>
            <p:ph type="sldNum" idx="10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4E6232-4665-4E2D-81DE-D4BF077A46E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 type="sldNum" idx="1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3B39CA-0CA5-44E5-B8F9-06D852E85F3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0430C9-CA75-4577-959F-C2D5E46BE4A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PlaceHolder 3"/>
          <p:cNvSpPr>
            <a:spLocks noGrp="1"/>
          </p:cNvSpPr>
          <p:nvPr>
            <p:ph type="sldNum" idx="1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947307-6D10-4F51-88B6-A49A23E2F81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PlaceHolder 3"/>
          <p:cNvSpPr>
            <a:spLocks noGrp="1"/>
          </p:cNvSpPr>
          <p:nvPr>
            <p:ph type="sldNum" idx="1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33AF3E-6865-4764-B510-E14D32B0DA2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PlaceHolder 3"/>
          <p:cNvSpPr>
            <a:spLocks noGrp="1"/>
          </p:cNvSpPr>
          <p:nvPr>
            <p:ph type="sldNum" idx="11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9841BE-A8C0-4C4E-B7D6-B2191D94FDA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PlaceHolder 3"/>
          <p:cNvSpPr>
            <a:spLocks noGrp="1"/>
          </p:cNvSpPr>
          <p:nvPr>
            <p:ph type="sldNum" idx="11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944BA5-273B-4832-BFC4-921F6F32388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PlaceHolder 3"/>
          <p:cNvSpPr>
            <a:spLocks noGrp="1"/>
          </p:cNvSpPr>
          <p:nvPr>
            <p:ph type="sldNum" idx="11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349DF2-561E-4C95-9E21-43881BEB532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PlaceHolder 3"/>
          <p:cNvSpPr>
            <a:spLocks noGrp="1"/>
          </p:cNvSpPr>
          <p:nvPr>
            <p:ph type="sldNum" idx="11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4D30F9-7DCD-4746-A614-E66B61A541E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PlaceHolder 3"/>
          <p:cNvSpPr>
            <a:spLocks noGrp="1"/>
          </p:cNvSpPr>
          <p:nvPr>
            <p:ph type="sldNum" idx="11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91C315-FFB8-4065-9D5E-9E291B5A489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PlaceHolder 3"/>
          <p:cNvSpPr>
            <a:spLocks noGrp="1"/>
          </p:cNvSpPr>
          <p:nvPr>
            <p:ph type="sldNum" idx="11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8B98FE-B851-4F1C-8EF2-317B7C738C5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PlaceHolder 3"/>
          <p:cNvSpPr>
            <a:spLocks noGrp="1"/>
          </p:cNvSpPr>
          <p:nvPr>
            <p:ph type="sldNum" idx="11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6B9A36-C7A0-478D-9FC4-F751E51404B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 type="sldNum" idx="12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8BECBA-38C5-4736-A05B-1C8C5390CB5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669433-98F7-4D65-A013-BCB3FC4B84D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PlaceHolder 3"/>
          <p:cNvSpPr>
            <a:spLocks noGrp="1"/>
          </p:cNvSpPr>
          <p:nvPr>
            <p:ph type="sldNum" idx="12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B29C7C-7D34-4931-B51E-D7D87748E70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PlaceHolder 3"/>
          <p:cNvSpPr>
            <a:spLocks noGrp="1"/>
          </p:cNvSpPr>
          <p:nvPr>
            <p:ph type="sldNum" idx="12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0D76E6-D627-4C4C-92E6-BD4045084B6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PlaceHolder 3"/>
          <p:cNvSpPr>
            <a:spLocks noGrp="1"/>
          </p:cNvSpPr>
          <p:nvPr>
            <p:ph type="sldNum" idx="12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69FA91-A0D8-400B-9E98-A9FBF9E8800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PlaceHolder 3"/>
          <p:cNvSpPr>
            <a:spLocks noGrp="1"/>
          </p:cNvSpPr>
          <p:nvPr>
            <p:ph type="sldNum" idx="12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19808B-E0A1-46FF-AE84-90BA37B01C2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PlaceHolder 3"/>
          <p:cNvSpPr>
            <a:spLocks noGrp="1"/>
          </p:cNvSpPr>
          <p:nvPr>
            <p:ph type="sldNum" idx="12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09BA7A-9826-430E-9FDD-0C392ABA09E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PlaceHolder 3"/>
          <p:cNvSpPr>
            <a:spLocks noGrp="1"/>
          </p:cNvSpPr>
          <p:nvPr>
            <p:ph type="sldNum" idx="12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EB6395-4F3E-4743-B8C1-AF030852E5E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PlaceHolder 3"/>
          <p:cNvSpPr>
            <a:spLocks noGrp="1"/>
          </p:cNvSpPr>
          <p:nvPr>
            <p:ph type="sldNum" idx="12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0D5EDC-3C23-427E-81E3-B1E8AE3DB6D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PlaceHolder 3"/>
          <p:cNvSpPr>
            <a:spLocks noGrp="1"/>
          </p:cNvSpPr>
          <p:nvPr>
            <p:ph type="sldNum" idx="12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F0BB7B-B99B-49AF-A0D8-BBFCE56BF3C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PlaceHolder 3"/>
          <p:cNvSpPr>
            <a:spLocks noGrp="1"/>
          </p:cNvSpPr>
          <p:nvPr>
            <p:ph type="sldNum" idx="12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137CBE-EC90-423B-AEFB-13E8EF18EEE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PlaceHolder 3"/>
          <p:cNvSpPr>
            <a:spLocks noGrp="1"/>
          </p:cNvSpPr>
          <p:nvPr>
            <p:ph type="sldNum" idx="13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74B0B7-7C61-4DC3-AA4A-C3528296245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4DBED7-C41A-4038-B22A-68BF800EE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PlaceHolder 3"/>
          <p:cNvSpPr>
            <a:spLocks noGrp="1"/>
          </p:cNvSpPr>
          <p:nvPr>
            <p:ph type="sldNum" idx="13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7C3708-FF2D-4B63-AB0F-7A12DF803B2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3"/>
          <p:cNvSpPr>
            <a:spLocks noGrp="1"/>
          </p:cNvSpPr>
          <p:nvPr>
            <p:ph type="sldNum" idx="13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B0E24F-5A9C-480F-8C53-AA42E8AF027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PlaceHolder 3"/>
          <p:cNvSpPr>
            <a:spLocks noGrp="1"/>
          </p:cNvSpPr>
          <p:nvPr>
            <p:ph type="sldNum" idx="13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8F6395-7B5A-4A6E-9E91-186EB860AC4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PlaceHolder 3"/>
          <p:cNvSpPr>
            <a:spLocks noGrp="1"/>
          </p:cNvSpPr>
          <p:nvPr>
            <p:ph type="sldNum" idx="13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EE6770-380A-40F1-9AE2-743DFB77595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PlaceHolder 3"/>
          <p:cNvSpPr>
            <a:spLocks noGrp="1"/>
          </p:cNvSpPr>
          <p:nvPr>
            <p:ph type="sldNum" idx="13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D0CCC1-B489-4876-BB07-391D5876491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PlaceHolder 3"/>
          <p:cNvSpPr>
            <a:spLocks noGrp="1"/>
          </p:cNvSpPr>
          <p:nvPr>
            <p:ph type="sldNum" idx="13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5AE1B8-187C-49D8-AA9C-34AC4886E11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PlaceHolder 3"/>
          <p:cNvSpPr>
            <a:spLocks noGrp="1"/>
          </p:cNvSpPr>
          <p:nvPr>
            <p:ph type="sldNum" idx="13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2833FB-C10C-42A4-9E00-C2FACA16516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PlaceHolder 3"/>
          <p:cNvSpPr>
            <a:spLocks noGrp="1"/>
          </p:cNvSpPr>
          <p:nvPr>
            <p:ph type="sldNum" idx="13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467EDC-93F9-478A-8CFD-D1E2EB8F288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PlaceHolder 3"/>
          <p:cNvSpPr>
            <a:spLocks noGrp="1"/>
          </p:cNvSpPr>
          <p:nvPr>
            <p:ph type="sldNum" idx="13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CB8B84-E9EA-4222-B41C-28272BC146E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PlaceHolder 3"/>
          <p:cNvSpPr>
            <a:spLocks noGrp="1"/>
          </p:cNvSpPr>
          <p:nvPr>
            <p:ph type="sldNum" idx="14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5419AA-0BCC-4C52-B03D-16794026305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6ABEDE-E697-45FD-9777-133700010D3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PlaceHolder 3"/>
          <p:cNvSpPr>
            <a:spLocks noGrp="1"/>
          </p:cNvSpPr>
          <p:nvPr>
            <p:ph type="sldNum" idx="14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09CFFF-EF6D-4C89-BBDC-45D9145878F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PlaceHolder 3"/>
          <p:cNvSpPr>
            <a:spLocks noGrp="1"/>
          </p:cNvSpPr>
          <p:nvPr>
            <p:ph type="sldNum" idx="14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8AAE93-D106-4522-8181-678E18BEBD8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PlaceHolder 3"/>
          <p:cNvSpPr>
            <a:spLocks noGrp="1"/>
          </p:cNvSpPr>
          <p:nvPr>
            <p:ph type="sldNum" idx="14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901BB8-5179-40B0-8751-DADACE2EA61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PlaceHolder 3"/>
          <p:cNvSpPr>
            <a:spLocks noGrp="1"/>
          </p:cNvSpPr>
          <p:nvPr>
            <p:ph type="sldNum" idx="14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DB67CA-AC5C-413D-B2D1-347506E5DF9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PlaceHolder 3"/>
          <p:cNvSpPr>
            <a:spLocks noGrp="1"/>
          </p:cNvSpPr>
          <p:nvPr>
            <p:ph type="sldNum" idx="14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0261D7-1C42-4D04-9DFB-9F7BFE96B02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PlaceHolder 3"/>
          <p:cNvSpPr>
            <a:spLocks noGrp="1"/>
          </p:cNvSpPr>
          <p:nvPr>
            <p:ph type="sldNum" idx="14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67D602-AB26-4B0E-9E17-0E80C381971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PlaceHolder 3"/>
          <p:cNvSpPr>
            <a:spLocks noGrp="1"/>
          </p:cNvSpPr>
          <p:nvPr>
            <p:ph type="dt" idx="14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PlaceHolder 4"/>
          <p:cNvSpPr>
            <a:spLocks noGrp="1"/>
          </p:cNvSpPr>
          <p:nvPr>
            <p:ph type="sldNum" idx="14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3B2D4F-8A5B-4C0C-A0F8-7CF8004EF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PlaceHolder 3"/>
          <p:cNvSpPr>
            <a:spLocks noGrp="1"/>
          </p:cNvSpPr>
          <p:nvPr>
            <p:ph type="dt" idx="14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PlaceHolder 4"/>
          <p:cNvSpPr>
            <a:spLocks noGrp="1"/>
          </p:cNvSpPr>
          <p:nvPr>
            <p:ph type="sldNum" idx="15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86DA65-208E-4ABD-93CC-A0E00534E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6" name="PlaceHolder 3"/>
          <p:cNvSpPr>
            <a:spLocks noGrp="1"/>
          </p:cNvSpPr>
          <p:nvPr>
            <p:ph type="dt" idx="15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7" name="PlaceHolder 4"/>
          <p:cNvSpPr>
            <a:spLocks noGrp="1"/>
          </p:cNvSpPr>
          <p:nvPr>
            <p:ph type="sldNum" idx="15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D79369-6057-4E7A-8D93-F423528DF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PlaceHolder 3"/>
          <p:cNvSpPr>
            <a:spLocks noGrp="1"/>
          </p:cNvSpPr>
          <p:nvPr>
            <p:ph type="dt" idx="15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PlaceHolder 4"/>
          <p:cNvSpPr>
            <a:spLocks noGrp="1"/>
          </p:cNvSpPr>
          <p:nvPr>
            <p:ph type="sldNum" idx="15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8BE3BD-7D88-4FA3-8D22-BC94E3466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1ABD9D-5950-4116-A592-A04F4ACF248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PlaceHolder 3"/>
          <p:cNvSpPr>
            <a:spLocks noGrp="1"/>
          </p:cNvSpPr>
          <p:nvPr>
            <p:ph type="dt" idx="15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PlaceHolder 4"/>
          <p:cNvSpPr>
            <a:spLocks noGrp="1"/>
          </p:cNvSpPr>
          <p:nvPr>
            <p:ph type="sldNum" idx="15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497C65-7C88-4F77-A78E-8369678F7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6" name="PlaceHolder 3"/>
          <p:cNvSpPr>
            <a:spLocks noGrp="1"/>
          </p:cNvSpPr>
          <p:nvPr>
            <p:ph type="dt" idx="15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7" name="PlaceHolder 4"/>
          <p:cNvSpPr>
            <a:spLocks noGrp="1"/>
          </p:cNvSpPr>
          <p:nvPr>
            <p:ph type="sldNum" idx="15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13812E-6F85-417B-8875-1B61389F7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PlaceHolder 3"/>
          <p:cNvSpPr>
            <a:spLocks noGrp="1"/>
          </p:cNvSpPr>
          <p:nvPr>
            <p:ph type="dt" idx="15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PlaceHolder 4"/>
          <p:cNvSpPr>
            <a:spLocks noGrp="1"/>
          </p:cNvSpPr>
          <p:nvPr>
            <p:ph type="sldNum" idx="16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D015E3-B047-49AD-8DC0-9D6434B89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2"/>
    <p:sldLayoutId id="2147485613" r:id="rId3"/>
    <p:sldLayoutId id="2147485614" r:id="rId4"/>
    <p:sldLayoutId id="2147485615" r:id="rId5"/>
    <p:sldLayoutId id="2147485616" r:id="rId6"/>
    <p:sldLayoutId id="2147485617" r:id="rId7"/>
    <p:sldLayoutId id="2147485618" r:id="rId8"/>
    <p:sldLayoutId id="2147485619" r:id="rId9"/>
    <p:sldLayoutId id="2147485620" r:id="rId10"/>
    <p:sldLayoutId id="2147485621" r:id="rId11"/>
    <p:sldLayoutId id="2147485622" r:id="rId12"/>
    <p:sldLayoutId id="2147485623" r:id="rId13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6" name="PlaceHolder 3"/>
          <p:cNvSpPr>
            <a:spLocks noGrp="1"/>
          </p:cNvSpPr>
          <p:nvPr>
            <p:ph type="dt" idx="16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7" name="PlaceHolder 4"/>
          <p:cNvSpPr>
            <a:spLocks noGrp="1"/>
          </p:cNvSpPr>
          <p:nvPr>
            <p:ph type="sldNum" idx="16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369834-9080-47EF-B1AF-33AEBA5B9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2"/>
    <p:sldLayoutId id="2147485626" r:id="rId3"/>
    <p:sldLayoutId id="2147485627" r:id="rId4"/>
    <p:sldLayoutId id="2147485628" r:id="rId5"/>
    <p:sldLayoutId id="2147485629" r:id="rId6"/>
    <p:sldLayoutId id="2147485630" r:id="rId7"/>
    <p:sldLayoutId id="2147485631" r:id="rId8"/>
    <p:sldLayoutId id="2147485632" r:id="rId9"/>
    <p:sldLayoutId id="2147485633" r:id="rId10"/>
    <p:sldLayoutId id="2147485634" r:id="rId11"/>
    <p:sldLayoutId id="2147485635" r:id="rId12"/>
    <p:sldLayoutId id="2147485636" r:id="rId13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PlaceHolder 3"/>
          <p:cNvSpPr>
            <a:spLocks noGrp="1"/>
          </p:cNvSpPr>
          <p:nvPr>
            <p:ph type="dt" idx="16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PlaceHolder 4"/>
          <p:cNvSpPr>
            <a:spLocks noGrp="1"/>
          </p:cNvSpPr>
          <p:nvPr>
            <p:ph type="sldNum" idx="16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B75813-4DB8-4191-A0F2-07C7B33EC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2"/>
    <p:sldLayoutId id="2147485639" r:id="rId3"/>
    <p:sldLayoutId id="2147485640" r:id="rId4"/>
    <p:sldLayoutId id="2147485641" r:id="rId5"/>
    <p:sldLayoutId id="2147485642" r:id="rId6"/>
    <p:sldLayoutId id="2147485643" r:id="rId7"/>
    <p:sldLayoutId id="2147485644" r:id="rId8"/>
    <p:sldLayoutId id="2147485645" r:id="rId9"/>
    <p:sldLayoutId id="2147485646" r:id="rId10"/>
    <p:sldLayoutId id="2147485647" r:id="rId11"/>
    <p:sldLayoutId id="2147485648" r:id="rId12"/>
    <p:sldLayoutId id="2147485649" r:id="rId13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PlaceHolder 3"/>
          <p:cNvSpPr>
            <a:spLocks noGrp="1"/>
          </p:cNvSpPr>
          <p:nvPr>
            <p:ph type="dt" idx="16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PlaceHolder 4"/>
          <p:cNvSpPr>
            <a:spLocks noGrp="1"/>
          </p:cNvSpPr>
          <p:nvPr>
            <p:ph type="sldNum" idx="16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01B85D-71ED-4EE5-A041-F671B76B3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2"/>
    <p:sldLayoutId id="2147485652" r:id="rId3"/>
    <p:sldLayoutId id="2147485653" r:id="rId4"/>
    <p:sldLayoutId id="2147485654" r:id="rId5"/>
    <p:sldLayoutId id="2147485655" r:id="rId6"/>
    <p:sldLayoutId id="2147485656" r:id="rId7"/>
    <p:sldLayoutId id="2147485657" r:id="rId8"/>
    <p:sldLayoutId id="2147485658" r:id="rId9"/>
    <p:sldLayoutId id="2147485659" r:id="rId10"/>
    <p:sldLayoutId id="2147485660" r:id="rId11"/>
    <p:sldLayoutId id="2147485661" r:id="rId12"/>
    <p:sldLayoutId id="2147485662" r:id="rId13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PlaceHolder 3"/>
          <p:cNvSpPr>
            <a:spLocks noGrp="1"/>
          </p:cNvSpPr>
          <p:nvPr>
            <p:ph type="dt" idx="16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PlaceHolder 4"/>
          <p:cNvSpPr>
            <a:spLocks noGrp="1"/>
          </p:cNvSpPr>
          <p:nvPr>
            <p:ph type="sldNum" idx="16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05797C-FC07-4B59-B262-5888E11FF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2"/>
    <p:sldLayoutId id="2147485665" r:id="rId3"/>
    <p:sldLayoutId id="2147485666" r:id="rId4"/>
    <p:sldLayoutId id="2147485667" r:id="rId5"/>
    <p:sldLayoutId id="2147485668" r:id="rId6"/>
    <p:sldLayoutId id="2147485669" r:id="rId7"/>
    <p:sldLayoutId id="2147485670" r:id="rId8"/>
    <p:sldLayoutId id="2147485671" r:id="rId9"/>
    <p:sldLayoutId id="2147485672" r:id="rId10"/>
    <p:sldLayoutId id="2147485673" r:id="rId11"/>
    <p:sldLayoutId id="2147485674" r:id="rId12"/>
    <p:sldLayoutId id="2147485675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3D9039-861F-42D2-82C3-22C846F13D5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6EA2CB-C390-4D5A-81D1-FDD901F0D0A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7EEF3E-8666-426E-A843-F5CBE0ABD01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8CB7EA-E08F-4289-836A-B9A413B2EE1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5087F8-7400-4D41-B34A-9797BFC3EA4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42E6EB-0FB4-4892-88D3-A02EA0AE936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1A56B0-4B9D-4CBE-A1C2-B27A975EE8B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586E42-8661-430B-8078-42BEAF7D0BA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E1BFBD-1DE2-4C5E-BDF0-4CD61D13FC0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7F9623-7953-45FC-B6C8-5E52A2722D1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F4286A-2301-4107-B167-65D1133F2E6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4F59C7-5BF3-44CA-B464-1BD46F41B07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412B61-5EC4-4619-99B6-E787DF311FE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524F21-BCBE-4323-AF41-72E1C2C1ABF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A47C38-73C4-4E13-87B6-4CA8391CD61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8FF91E-7D48-4D72-80B3-1C6B451EB6E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6C5E5B-2042-4A8F-AD75-90B8B06559E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845B43-2B45-4F9D-9321-F7D51B7F7E3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1F6049-57CD-4898-A055-DA56AD6FD44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F35B43-938B-49FA-9682-0CAFDE59FA8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7B2DED-5957-4D83-B950-B6DCAE5A382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EA86BA-9986-4B8D-912C-104108AEFAE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5B270E-BEE6-4560-9973-533B3235EEC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A6C294-294D-4EB1-B36B-D865CC449D1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BA611B-F480-4572-BA0F-3F0C8DDB127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A16925-4915-4F7A-A7EE-78C004A10C3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034C77-A3DB-4F89-ACA9-83BFD41E818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5CAC6E-0719-42E4-A428-414A62D5DA3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BB266D-0101-4A7A-ADEE-DD9EBEACF03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3F2EC6-1BE2-4158-B18D-55D38CA09A3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C5C599-D258-4B06-B31C-3614C8006FB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84A3BB-D272-4CEF-AF50-8E49D346B2C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FC4EDF-47F5-4E89-84E1-6BB90F22245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0830EC-1B1E-4D38-8817-DD0A8CAC82D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AE76DA-C9E9-406D-BE52-4C6A5EB4F0A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4ED43A-74F3-4EFC-AA6E-0E3A1348C88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C9238E-4F3F-40E5-97ED-738482D2BBC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1BE89A-BD31-40B0-8C44-EB342AEF920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58B4C7-FF54-47FB-BBAB-638C67D79A4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 type="sldNum" idx="5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5C9551-DE03-4EA3-95DB-77BAB0F9906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sldNum" idx="5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08EB8F-7617-42D0-8DF2-5C46E1C1668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804D88-C48E-4EE2-A16A-5A7B2808314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sldNum" idx="5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B7CC9C-CA15-4068-9C60-142370D4177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9EF138-AD1A-4B8E-A6F7-03689859444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E57E24-C8CB-4804-A955-A4869DBDC64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 type="sldNum" idx="5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D94549-B8E0-41BC-AD2B-6E27D3E7CF6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 type="sldNum" idx="5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72B067-A4FF-49F7-9316-6B607BE2A2B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31E809-C8F2-4BD1-8C55-34F81F81B9B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5F1E80-AC2D-482D-9E66-4253602F582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 type="sldNum" idx="6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2BB7F8-1060-4EED-B678-BBCB8639E33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 type="sldNum" idx="6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701672-6BAB-4D47-A29E-38E5D7F0B9F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4D5C8F-A466-41D5-8A09-B746DB70C0E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 type="sldNum" idx="6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FE9899-7CB6-409C-A610-70801C443BD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 type="sldNum" idx="6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0ED6A9-C688-46C1-8E23-BA164D607A8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F4C926-7F71-4FFC-A78D-61FCA01A6C4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 type="sldNum" idx="6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8A00AB-13A8-4C84-BDF8-52916D4FEC3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 type="sldNum" idx="6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99EC06-EB11-4CC9-A6A4-0C26141C5A0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E593C5-92E1-43CB-A933-BDB0B564A52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 type="sldNum" idx="7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622806-DD47-4524-970E-4323DCD7EEE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29CBEF-CA76-40F1-9789-1B096E8A4AD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 type="sldNum" idx="7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1F20F5-D4EE-43C2-9716-C6195946098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9C3795-6719-4CCC-BB87-3C5B1C8640A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 type="sldNum" idx="7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C01DE0-2782-4D03-B960-EECE41B819C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 type="sldNum" idx="7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957659-29F1-4664-8C72-B6F70908FC7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 type="sldNum" idx="7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B0F9CB-EC79-40A6-B8D8-60DDB496E6A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 type="sldNum" idx="7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146172-CF92-4E9A-BC26-D2CD6806D04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64DF3F-5D41-4997-8826-BB3B4A73FA3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3"/>
          <p:cNvSpPr>
            <a:spLocks noGrp="1"/>
          </p:cNvSpPr>
          <p:nvPr>
            <p:ph type="sldNum" idx="7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FC3E62-B942-4FFF-AE2E-CF3A08DE835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 type="sldNum" idx="7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91DEC1-3779-426A-B441-101BF600B81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 type="sldNum" idx="8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BE6127-E13A-4CD3-9057-4BD8ECC8E91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71BC1B-790B-4870-B7EB-5089B3C87B3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3"/>
          <p:cNvSpPr>
            <a:spLocks noGrp="1"/>
          </p:cNvSpPr>
          <p:nvPr>
            <p:ph type="sldNum" idx="8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917DB0-5D2D-4ED9-A434-B33D304AE11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 type="sldNum" idx="8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1C32BC-B18D-4882-94AC-22026EA6176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PlaceHolder 3"/>
          <p:cNvSpPr>
            <a:spLocks noGrp="1"/>
          </p:cNvSpPr>
          <p:nvPr>
            <p:ph type="sldNum" idx="8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8F4F8D-B9E0-4A68-A64F-2C582FC57E7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ADFA3F-5B5F-4377-8283-6CBB0B7A11F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PlaceHolder 3"/>
          <p:cNvSpPr>
            <a:spLocks noGrp="1"/>
          </p:cNvSpPr>
          <p:nvPr>
            <p:ph type="sldNum" idx="8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797D52-CE2B-490D-8148-4060BE9E7C9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PlaceHolder 3"/>
          <p:cNvSpPr>
            <a:spLocks noGrp="1"/>
          </p:cNvSpPr>
          <p:nvPr>
            <p:ph type="sldNum" idx="8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BA02FB-C9B5-45BA-981B-7BBCF6A8FB9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PlaceHolder 3"/>
          <p:cNvSpPr>
            <a:spLocks noGrp="1"/>
          </p:cNvSpPr>
          <p:nvPr>
            <p:ph type="sldNum" idx="8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BE75AA-A0F9-440A-8939-DF69FD767CF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PlaceHolder 3"/>
          <p:cNvSpPr>
            <a:spLocks noGrp="1"/>
          </p:cNvSpPr>
          <p:nvPr>
            <p:ph type="sldNum" idx="8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7AF479-C9EF-4C5B-90DB-EF8E3282DE3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 type="sldNum" idx="8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20ACCB-E1E6-44FE-B2EC-A8792760F72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 type="sldNum" idx="9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DEC292-F778-4AD7-AB80-8F03AE03347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D040C0-BED9-4690-871E-4F52F521EED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PlaceHolder 3"/>
          <p:cNvSpPr>
            <a:spLocks noGrp="1"/>
          </p:cNvSpPr>
          <p:nvPr>
            <p:ph type="sldNum" idx="9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A0F6FC-6225-487E-8DA0-9BE1ED7203F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PlaceHolder 3"/>
          <p:cNvSpPr>
            <a:spLocks noGrp="1"/>
          </p:cNvSpPr>
          <p:nvPr>
            <p:ph type="sldNum" idx="9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948F37-72E2-4F2E-84EC-8E0AEAF9059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 type="sldNum" idx="9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4A94E4-F9CE-4457-8916-D4551EC7A0F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PlaceHolder 3"/>
          <p:cNvSpPr>
            <a:spLocks noGrp="1"/>
          </p:cNvSpPr>
          <p:nvPr>
            <p:ph type="sldNum" idx="9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25A047-1F3C-480C-A3DC-C41D7F279EC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PlaceHolder 3"/>
          <p:cNvSpPr>
            <a:spLocks noGrp="1"/>
          </p:cNvSpPr>
          <p:nvPr>
            <p:ph type="sldNum" idx="9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F090D7-4A66-4F87-924E-368A47BF580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PlaceHolder 3"/>
          <p:cNvSpPr>
            <a:spLocks noGrp="1"/>
          </p:cNvSpPr>
          <p:nvPr>
            <p:ph type="sldNum" idx="9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0B1A74-CB1B-4A05-9AEC-809282C780D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 type="sldNum" idx="9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F2EA90-E066-486D-A82B-2847EBBB57F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PlaceHolder 3"/>
          <p:cNvSpPr>
            <a:spLocks noGrp="1"/>
          </p:cNvSpPr>
          <p:nvPr>
            <p:ph type="sldNum" idx="9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82D734-CE00-4A1E-8D7E-3A743B4E923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PlaceHolder 3"/>
          <p:cNvSpPr>
            <a:spLocks noGrp="1"/>
          </p:cNvSpPr>
          <p:nvPr>
            <p:ph type="sldNum" idx="9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F4D8BA-F567-4902-9B1B-E4559401980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PlaceHolder 3"/>
          <p:cNvSpPr>
            <a:spLocks noGrp="1"/>
          </p:cNvSpPr>
          <p:nvPr>
            <p:ph type="sldNum" idx="10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C74551-7875-4F43-959C-105C8FFEA2A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5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153.xml"/><Relationship Id="rId5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3" name="Rectangle 1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4" name="Rectangle 2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5" name="Rectangle 3"/>
          <p:cNvSpPr/>
          <p:nvPr/>
        </p:nvSpPr>
        <p:spPr>
          <a:xfrm>
            <a:off x="826920" y="5805360"/>
            <a:ext cx="734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6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6397" name="Picture 5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6398" name="Picture 6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6399" name="Picture 7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6400" name="Picture 8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Text Box 1"/>
          <p:cNvSpPr/>
          <p:nvPr/>
        </p:nvSpPr>
        <p:spPr>
          <a:xfrm>
            <a:off x="32400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ακόμη ενδιαφέρουσα, λειτουργία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τισμένου χώρου είναι πως ανάλογα με τα χαρακτηριστικά του, δηλαδή το μέγεθος και το σχήμ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ευκολύνουν 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διαμόρφω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ού χώρου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ην οργάνωση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ων διαφόρων περιοχών της τάξης(γωνιές μάθησης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74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75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76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7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8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79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80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81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2" name="Text Box 1"/>
          <p:cNvSpPr/>
          <p:nvPr/>
        </p:nvSpPr>
        <p:spPr>
          <a:xfrm>
            <a:off x="25092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ό στοιχείο είναι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χώρος που αναλογεί στον κάθε μαθητή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γχρονες προδιαγραφές απαιτού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ιφάνεια αίθουσας τουλάχιστον 1,50 τ.μ/ανά μαθητή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Πηγή: Ο.Σ.Κ. Α.Ε.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83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84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85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6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7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88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89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90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1" name="Text Box 1"/>
          <p:cNvSpPr/>
          <p:nvPr/>
        </p:nvSpPr>
        <p:spPr>
          <a:xfrm>
            <a:off x="25092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υτό είναι σημαντικό, καθώς ο συνωστισμός μαθητών σε μια αίθουσ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φαίνεται να έχει αρνητικές επιδράσεις στη συμπεριφορά των ατόμων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διαμφισβήτητο επίσης  είναι ότι οι ευρύχωρες αίθουσε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δίνουν τη δυνατότητα στον εκπαιδευτικό να χρησιμοποιεί εναλλακ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ορφές διάταξης των θρανίω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π.χ. ομαδοσυνεργατική διδασκαλία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η διάταξη κλπ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9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9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9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9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98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9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0" name="Text Box 1"/>
          <p:cNvSpPr/>
          <p:nvPr/>
        </p:nvSpPr>
        <p:spPr>
          <a:xfrm>
            <a:off x="25092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κάθε σχολική αίθουσα έχει μια συγκεκριμένη διαρρύθμιση.  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ό της μπορεί να χωρίζεται σε περιοχές με διαφορετική λειτουργία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εμία από αυτές τις περιοχ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 σχήμα και το μέγεθός τ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υπηρετεί συγκεκριμένες πτυχές του διδακτικο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γου ( γωνιές μάθησης, ανάπτυξη ορισμένων δραστηριοτήτων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01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02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03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4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5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06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07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08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9" name="Text Box 1"/>
          <p:cNvSpPr/>
          <p:nvPr/>
        </p:nvSpPr>
        <p:spPr>
          <a:xfrm>
            <a:off x="25092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έπιπλα (θρανία, καρέκλες, βιβλιοθήκες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ίνακες, εποπτικό υλικό ,κλπ)και ο εξοπλισμό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ποθετούνται στο χώρο ανάλογα με τη λειτουργία του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1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1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1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1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6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1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8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 έχει μεγάλη σημασία καθώς η βασική λειτουργία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γκειται ότι προσφέρει τις άμεσες συνθήκες του χώρου για το εκπαιδευτικό έργο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τό  επιτυγχάνεται με τη διαρρύθμιση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ισθητική του, οι οποίες δημιουργούν τις υλικές προϋποθέσεις για την οργάνωση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σε τέσσερα επίπεδα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1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2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2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2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2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7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στη διαμόρφωσή της σε επιμέρους περιοχές λειτουργίας (για ομαδική/ ατομική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, μελέτη, συζήτηση),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στην αντιληπτική και αισθητική οργάνωση του εσωτερικού χώρου, οι οπο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νισχύουν σημαντικά τον προσανατολισμό της λειτουργίας της υλικής δομής,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8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29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30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1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2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33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34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35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6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στην ανάπτυξη συγκεκριμένων μορφών εκπαιδευτικής επικοινωνί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ς στο εσωτερικό της, που σχετίζονται με τις πρακτικές χώρου, 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έσεις και τις στάσεις του σώματος του παιδιού στην τάξη,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37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38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39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0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1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42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3" name="Rectangle 8"/>
          <p:cNvSpPr/>
          <p:nvPr/>
        </p:nvSpPr>
        <p:spPr>
          <a:xfrm>
            <a:off x="971640" y="220500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44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5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στη δημιουργία συνθηκών μικροπεριβάλλοντος (με τοπικές ρυθμίσει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, και του χρωματικού ερεθίσματος) που ευνοούν την εκπαιδευτικ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ία μιας περιοχή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46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47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48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9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0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51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52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53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4" name="Text Box 1"/>
          <p:cNvSpPr/>
          <p:nvPr/>
        </p:nvSpPr>
        <p:spPr>
          <a:xfrm>
            <a:off x="395280" y="1052640"/>
            <a:ext cx="835344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ι τεχνικοί περιβαλλοντικοί παράγοντες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τα αισθητικά και τα τεχνικά δεδομένα της σχολικής τάξη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αυτ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αταλέγοντ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χρώματα, ο φωτισμός, η θερμοκρασ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καθορίζου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εχνικές συνθήκες περιβάλλοντος στην αίθουσα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55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56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57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8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9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0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61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62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Text Box 1"/>
          <p:cNvSpPr/>
          <p:nvPr/>
        </p:nvSpPr>
        <p:spPr>
          <a:xfrm>
            <a:off x="357120" y="1392120"/>
            <a:ext cx="81025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 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20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0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0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0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8" name="Rectangle 8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0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3" name="Text Box 1"/>
          <p:cNvSpPr/>
          <p:nvPr/>
        </p:nvSpPr>
        <p:spPr>
          <a:xfrm>
            <a:off x="395280" y="1052640"/>
            <a:ext cx="835344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ίγουρα, μπορούν 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ροποποιηθούν ευκολότερα σε αντίθεση με τα στοιχεία του κτισμένου χώρου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μφίβολα, συμβάλλουν στη δημιουργία των κατάλληλων προϋποθέσεων για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ή διαδικασί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64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65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66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7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8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9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0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1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2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φωτεινή, ζεστή με χαρούμε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χρώματα αίθουσα προδιαθέτει τους μαθητές και τους διδάσκοντες διαφορετικά από  μια μουντή και ψυχρή αίθουσα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73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74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75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6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7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78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9" name="Rectangle 8"/>
          <p:cNvSpPr/>
          <p:nvPr/>
        </p:nvSpPr>
        <p:spPr>
          <a:xfrm>
            <a:off x="1042920" y="19162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80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1" name="Text Box 1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θερμοκρασία, η θέρμανση , ο αερισμός είν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πιο σημαντικο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βαλλοντικοί παράγοντες που επηρεάζουν την επίδοση των μαθητών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8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8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8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8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8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8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0" name="Text Box 1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αυξημένος θόρυβος προκαλεί δυσλειτουργίες στην απόδο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τόμου ενώ ευθύνεται για την επιθετική συμπεριφορά και τη νευρικότητα 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θόρυβοι,, η  έλλειψη μόνωσης είναι στοιχεία που δεν επιδρούν θετικά στη διαδικασί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, από πλευράς εκπαιδευτικών αλλά και μάθησης από πλευράς μαθητώ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1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92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93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4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5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96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97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98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9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φωτισμός των αιθουσών είναι ένας σημαντικό ζήτημα 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εν είναι ασύνηθες το γεγονός μαθητές διαμαρτύρ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ως δεν μπορούν να παρακολουθήσουν το μάθημα λόγω ανεπαρ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ύς ή υπερβολικού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 ιδίως στα ελληνικά δεδομένα, που παράθυρα και κουρτίνες δεν είναι σ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λύτερη δυνατή κατάστασ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0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0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0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0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06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0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8" name="Text Box 1"/>
          <p:cNvSpPr/>
          <p:nvPr/>
        </p:nvSpPr>
        <p:spPr>
          <a:xfrm>
            <a:off x="324000" y="1392120"/>
            <a:ext cx="813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ή είναι η επιλογή των χρωμάτων της αίθουσας καθώς επηρεάζ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ψυχική διάθεση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δανικός θεωρείται ο συνδυασμός των φωτεινών, ψυχρών και θερμών χρωμάτων,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κολουθεί τις αρχές της δυναμικής των χρωμάτων (Συγκολλίτου, 1997)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0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1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1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1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1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1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7" name="Text Box 1"/>
          <p:cNvSpPr/>
          <p:nvPr/>
        </p:nvSpPr>
        <p:spPr>
          <a:xfrm>
            <a:off x="46836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Η επίπλωση και ο εξοπλισμ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όκειται για αντικείμενα με συγκεκριμένη χρήση που υποστηρίζουν τον τρόπο της εκπαιδευτικής λειτουργίας της τάξης, όπως τα θρανία, η έδρα, ο πίνακας,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ίσματα, οι κουρτίνες, η βιβλιοθήκη και άλλα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18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19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20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1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2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23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24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5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6" name="Text Box 1"/>
          <p:cNvSpPr/>
          <p:nvPr/>
        </p:nvSpPr>
        <p:spPr>
          <a:xfrm>
            <a:off x="46836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θρανία και το κάθισμα του μαθητή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έπει να είναι εργονομικά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να συμβάλλουν στη δημιουργία ενός φιλικού παιδαγωγικού  περιβάλλοντος για τις σχολικές δραστηριότητε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27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28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29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0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1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32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33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34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5" name="Text Box 1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 τα έπιπλα και ο εξοπλισμός παρουσιάζου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ονομικές ατέλειες έχουν αντίκτυπο στο αποτέλεσμα της εργασίας του μαθητή, ενώ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πορούν να προκαλέσουν επιθετική συμπεριφορά ακόμα  και προβλήματα υγείας (π.χ. σκολίωση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36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37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38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9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0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41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42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43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4" name="Text Box 1"/>
          <p:cNvSpPr/>
          <p:nvPr/>
        </p:nvSpPr>
        <p:spPr>
          <a:xfrm>
            <a:off x="250920" y="1392120"/>
            <a:ext cx="8208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δώ συγκαταλέγεται το υλικό που χρησιμοποιείται κατά τη διάρκεια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και μάθησης το οποίο είτε ανήκει στο σχολείο (βιβλία, εποπτικό υλικ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οπλιστικός μηχανισμός) είτε στους μαθητές (υλικό γραφής και ανάγνωσης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45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46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47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8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9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50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51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52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0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δακτηριακές εγκαταστάσεις του σχολείου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ν εξοπλισμό τους(πίνακες ,θρανία, καρέκλες, βιβλιοθήκες, εποπτικό υλικό, κλπ)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φωτισμό, 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ρμοκρασία, τον αερισμό ,το θόρυβο και το είδος της οργάνωσης όλων αυτών των στοιχεί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φέρουν ποικιλία φυσικών και συναισθηματικών ερεθισμάτων στα παιδιά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λλαπλά οφέλη στη διαδικασία της μάθηση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1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12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13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4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5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16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17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8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3" name="Text Box 1"/>
          <p:cNvSpPr/>
          <p:nvPr/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πηγή ερεθισμάτων μάθη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παρουσιάζει στον μαθητή πληροφορ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ικά με το περιεχόμενο των μαθημάτων 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54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55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56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7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8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59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0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61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2" name="Text Box 1"/>
          <p:cNvSpPr/>
          <p:nvPr/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ποιότητα της δραστηριότητας εξαρτάται από το εκπαιδευτικό υλικό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Όταν το υλικό είναι πλούσιο σε χρώματα , γραφικές παραστάσεις, κλπ  και ανανεώνεται τότε η  δραστηριότητα εμπλουτίζεται και πετυχαίνει το στόχο τη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τίθετα όταν το εκπαιδευτικό υλικό βρίσκεται είναι ελλιπές, φτωχό σε ερεθίσματα και σε κακή κατάσταση , η δραστηριότητα υποβαθμίζεται ή στην χειρότερη περίπτωση δεν προκαλεί και δενενδιαφέρει τους μαθητές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63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64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65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6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7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68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9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70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1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υλική (υπο)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7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7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7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7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78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7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0" name="Rectangle 1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682" name="Picture 3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683" name="Picture 4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684" name="Rectangle 5"/>
          <p:cNvSpPr/>
          <p:nvPr/>
        </p:nvSpPr>
        <p:spPr>
          <a:xfrm>
            <a:off x="611280" y="5950080"/>
            <a:ext cx="80643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5" name="Rectangle 6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9" name="Text Box 1"/>
          <p:cNvSpPr/>
          <p:nvPr/>
        </p:nvSpPr>
        <p:spPr>
          <a:xfrm>
            <a:off x="395280" y="139212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  για τη σχολική τάξη ερευνητές 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Γερμανός (2006)) διακρίνει πέντε κατηγορίες παραγόντων της υλικής δομής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ής αίθουσας: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τον κτισ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τον διαμορφω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τους τεχνητούς περιβαλλοντικούς παράγοντ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την επίπλωση και τον εξοπλισμ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5. το εκπαιδευτικό υλικ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2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2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2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26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2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8" name="Text Box 1"/>
          <p:cNvSpPr/>
          <p:nvPr/>
        </p:nvSpPr>
        <p:spPr>
          <a:xfrm>
            <a:off x="250920" y="1392120"/>
            <a:ext cx="842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άφορες κατηγορίες της υλικής δομής επιτελούν ξεχωριστές λειτουργίες 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ίες βρίσκονται σε διαδικασία συνεχής αλληλεξάρτησης και αλληλοσυμπλήρωσης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οινός παρανομαστής όλων αυτών , είναι πως επιδρούν στη συμπεριφορά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κειμένων και στη λειτουργία της τάξης. Συνδέουν, δηλαδή, το χώρο με του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ες της κοινωνικής δομής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3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3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3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Text Box 1"/>
          <p:cNvSpPr/>
          <p:nvPr/>
        </p:nvSpPr>
        <p:spPr>
          <a:xfrm>
            <a:off x="468360" y="836640"/>
            <a:ext cx="79912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 της τάξης περιγράφεται από τα στοιχεία της κατασκευή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τοίχοι, παράθυρα, πόρτα σχήμα, μέγεθος, κλπ) και ιδίως από την κάτοψ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ις όψεις της αίθουσας διδασκαλία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πράξη τα δεδομένα αυτά είναι δύσκολ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υποστούν οποιαδήποτε τροποποίηση ή μπορεί και να μην επιδέχονται καμί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τροπή ανάλογα με τους κανονισμούς του  οργανισμού κατασκευή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ού κτιρίο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38" name="Group 2"/>
          <p:cNvGrpSpPr/>
          <p:nvPr/>
        </p:nvGrpSpPr>
        <p:grpSpPr>
          <a:xfrm>
            <a:off x="0" y="0"/>
            <a:ext cx="9140760" cy="6548400"/>
            <a:chOff x="0" y="0"/>
            <a:chExt cx="9140760" cy="6548400"/>
          </a:xfrm>
        </p:grpSpPr>
        <p:grpSp>
          <p:nvGrpSpPr>
            <p:cNvPr id="6439" name="Group 3"/>
            <p:cNvGrpSpPr/>
            <p:nvPr/>
          </p:nvGrpSpPr>
          <p:grpSpPr>
            <a:xfrm>
              <a:off x="0" y="0"/>
              <a:ext cx="9140760" cy="6548400"/>
              <a:chOff x="0" y="0"/>
              <a:chExt cx="9140760" cy="6548400"/>
            </a:xfrm>
          </p:grpSpPr>
          <p:sp>
            <p:nvSpPr>
              <p:cNvPr id="6440" name="Line 4"/>
              <p:cNvSpPr/>
              <p:nvPr/>
            </p:nvSpPr>
            <p:spPr>
              <a:xfrm>
                <a:off x="179280" y="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1" name="Rectangle 5"/>
              <p:cNvSpPr/>
              <p:nvPr/>
            </p:nvSpPr>
            <p:spPr>
              <a:xfrm>
                <a:off x="1692360" y="7128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2" name="Rectangle 6"/>
              <p:cNvSpPr/>
              <p:nvPr/>
            </p:nvSpPr>
            <p:spPr>
              <a:xfrm>
                <a:off x="0" y="583236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43" name="Line 7"/>
            <p:cNvSpPr/>
            <p:nvPr/>
          </p:nvSpPr>
          <p:spPr>
            <a:xfrm>
              <a:off x="179280" y="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44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45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6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ο σύνολό τους αυτά τα στοιχε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ορίζουν τις γενικές αρχές οργάνω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ς σχολικής ζωή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συνεπώς τα βασικά κριτήρι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ργάνωσης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αθησιακού περιβάλλοντο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47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48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49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0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1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52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3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4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μφωνα με ερευνητές(  Γερμανός (2006), ο κτισμένος χώρος οργανώνει τη σύνδεση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με τους υπόλοιπους χώρους του σχολείου διασυνδέοντας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και οπτική επικοινωνία με αυτούς τους χώρ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ς παράδειγμα ορίζεται η ύπαρξη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αθύρων στην σχολική αίθουσ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6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57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58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9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0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61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2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63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4" name="Text Box 1"/>
          <p:cNvSpPr/>
          <p:nvPr/>
        </p:nvSpPr>
        <p:spPr>
          <a:xfrm>
            <a:off x="17928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λυτικότερα, μεγάλα και φαρδιά παράθυρα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τική προς τον εξωτερικό υπαίθριο χώρο μπορούν να διευκολύνουν την οπτική 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επικοινωνία της αίθουσας με τον αύλειο χώρο δίνοντας στο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ό και στους μαθητές τη δυνατότητα αξιοποίησης των εξωτερικώ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εθισμάτων που θεωρούνται σημαντικό παιδαγωγικό εργαλείο στη διδακτική πράξη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 χωρίς ή με λίγα και μικρά παράθυρα προσδίδουν στην τάξη έναν εσωστρεφή χαρακτήρ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5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66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67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8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9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70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71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2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5-10-16T10:39:24Z</dcterms:modified>
  <cp:revision>1</cp:revision>
  <dc:subject/>
  <dc:title/>
</cp:coreProperties>
</file>